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E32-5AFD-4854-85B4-5BA48AC7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840-7CCA-40CB-A449-E2B5AE57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BE8-98BF-4AA2-A2E3-7B5C665F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DFB-C0D6-4910-8A42-2909C552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D72-02C6-4676-A4B5-B9841EA8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5F6-851B-471B-B8BD-2BAECDD7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27A-54DA-413F-8AF3-FAD20CE5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B00-DB99-4FEB-89D5-3B521F8A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BD7-2F1E-44FA-B2DE-F1439A1B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0C1-413E-4EE5-8063-9EFC36CD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433-BB85-4A38-826A-89598F33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B17-0DFC-442C-B1A9-0178CD56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0D4F-ECAA-47AB-8A4E-A0A324476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7, 20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76520" y="1676520"/>
                <a:ext cx="9903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909720" y="3292560"/>
            <a:ext cx="32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00200" y="3102120"/>
                <a:ext cx="16002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954000" y="4519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600200" y="4495680"/>
                <a:ext cx="19051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224000" y="1928880"/>
            <a:ext cx="365040" cy="39348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3398" y="6424"/>
                </a:moveTo>
                <a:cubicBezTo>
                  <a:pt x="3536" y="6424"/>
                  <a:pt x="3654" y="6428"/>
                  <a:pt x="3795" y="6424"/>
                </a:cubicBezTo>
                <a:cubicBezTo>
                  <a:pt x="3999" y="6419"/>
                  <a:pt x="4189" y="6391"/>
                  <a:pt x="4390" y="6375"/>
                </a:cubicBezTo>
                <a:cubicBezTo>
                  <a:pt x="4398" y="6375"/>
                  <a:pt x="4407" y="6375"/>
                  <a:pt x="4415" y="6375"/>
                </a:cubicBezTo>
              </a:path>
              <a:path w="1018" h="1092">
                <a:moveTo>
                  <a:pt x="3646" y="5606"/>
                </a:moveTo>
                <a:cubicBezTo>
                  <a:pt x="3607" y="5593"/>
                  <a:pt x="3636" y="5594"/>
                  <a:pt x="3597" y="5581"/>
                </a:cubicBezTo>
                <a:cubicBezTo>
                  <a:pt x="3597" y="5746"/>
                  <a:pt x="3575" y="5911"/>
                  <a:pt x="3572" y="6077"/>
                </a:cubicBezTo>
                <a:cubicBezTo>
                  <a:pt x="3572" y="6169"/>
                  <a:pt x="3574" y="6196"/>
                  <a:pt x="3547" y="6251"/>
                </a:cubicBezTo>
              </a:path>
              <a:path w="1018" h="1092">
                <a:moveTo>
                  <a:pt x="3746" y="5581"/>
                </a:moveTo>
                <a:cubicBezTo>
                  <a:pt x="3787" y="5651"/>
                  <a:pt x="3770" y="5744"/>
                  <a:pt x="3770" y="5829"/>
                </a:cubicBezTo>
                <a:cubicBezTo>
                  <a:pt x="3770" y="5837"/>
                  <a:pt x="3770" y="5846"/>
                  <a:pt x="3770" y="5854"/>
                </a:cubicBezTo>
                <a:cubicBezTo>
                  <a:pt x="3867" y="5854"/>
                  <a:pt x="3950" y="5809"/>
                  <a:pt x="4043" y="5779"/>
                </a:cubicBezTo>
                <a:cubicBezTo>
                  <a:pt x="4101" y="5760"/>
                  <a:pt x="4126" y="5770"/>
                  <a:pt x="4118" y="5730"/>
                </a:cubicBezTo>
              </a:path>
              <a:path w="1018" h="1092">
                <a:moveTo>
                  <a:pt x="4043" y="5358"/>
                </a:moveTo>
                <a:cubicBezTo>
                  <a:pt x="4043" y="5600"/>
                  <a:pt x="4057" y="5837"/>
                  <a:pt x="4068" y="6077"/>
                </a:cubicBezTo>
                <a:cubicBezTo>
                  <a:pt x="4073" y="6185"/>
                  <a:pt x="4077" y="6230"/>
                  <a:pt x="4093" y="6325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240" y="1768320"/>
            <a:ext cx="322560" cy="295560"/>
          </a:xfrm>
          <a:custGeom>
            <a:avLst/>
            <a:gdLst/>
            <a:ahLst/>
            <a:rect l="l" t="t" r="r" b="b"/>
            <a:pathLst>
              <a:path w="894" h="820">
                <a:moveTo>
                  <a:pt x="8186" y="5060"/>
                </a:moveTo>
                <a:cubicBezTo>
                  <a:pt x="8186" y="5251"/>
                  <a:pt x="8134" y="5419"/>
                  <a:pt x="8111" y="5606"/>
                </a:cubicBezTo>
                <a:cubicBezTo>
                  <a:pt x="8111" y="5647"/>
                  <a:pt x="8111" y="5689"/>
                  <a:pt x="8111" y="5730"/>
                </a:cubicBezTo>
              </a:path>
              <a:path w="894" h="820">
                <a:moveTo>
                  <a:pt x="8508" y="5085"/>
                </a:moveTo>
                <a:cubicBezTo>
                  <a:pt x="8496" y="5192"/>
                  <a:pt x="8458" y="5230"/>
                  <a:pt x="8582" y="5283"/>
                </a:cubicBezTo>
                <a:cubicBezTo>
                  <a:pt x="8697" y="5332"/>
                  <a:pt x="8968" y="5412"/>
                  <a:pt x="8830" y="5606"/>
                </a:cubicBezTo>
                <a:cubicBezTo>
                  <a:pt x="8730" y="5681"/>
                  <a:pt x="8696" y="5705"/>
                  <a:pt x="8607" y="5655"/>
                </a:cubicBezTo>
              </a:path>
              <a:path w="894" h="820">
                <a:moveTo>
                  <a:pt x="8706" y="5060"/>
                </a:moveTo>
                <a:cubicBezTo>
                  <a:pt x="8855" y="4986"/>
                  <a:pt x="8905" y="4961"/>
                  <a:pt x="9004" y="491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70240" y="1616040"/>
            <a:ext cx="946440" cy="689040"/>
          </a:xfrm>
          <a:custGeom>
            <a:avLst/>
            <a:gdLst/>
            <a:ahLst/>
            <a:rect l="l" t="t" r="r" b="b"/>
            <a:pathLst>
              <a:path w="2630" h="1911">
                <a:moveTo>
                  <a:pt x="11782" y="4663"/>
                </a:moveTo>
                <a:cubicBezTo>
                  <a:pt x="11842" y="4881"/>
                  <a:pt x="11770" y="5126"/>
                  <a:pt x="11757" y="5358"/>
                </a:cubicBezTo>
                <a:cubicBezTo>
                  <a:pt x="11757" y="5490"/>
                  <a:pt x="11757" y="5507"/>
                  <a:pt x="11757" y="5581"/>
                </a:cubicBezTo>
              </a:path>
              <a:path w="2630" h="1911">
                <a:moveTo>
                  <a:pt x="12129" y="4688"/>
                </a:moveTo>
                <a:cubicBezTo>
                  <a:pt x="12117" y="4759"/>
                  <a:pt x="12044" y="5026"/>
                  <a:pt x="12179" y="5035"/>
                </a:cubicBezTo>
                <a:cubicBezTo>
                  <a:pt x="12329" y="5045"/>
                  <a:pt x="12440" y="4939"/>
                  <a:pt x="12551" y="4862"/>
                </a:cubicBezTo>
              </a:path>
              <a:path w="2630" h="1911">
                <a:moveTo>
                  <a:pt x="12427" y="4490"/>
                </a:moveTo>
                <a:cubicBezTo>
                  <a:pt x="12435" y="4755"/>
                  <a:pt x="12452" y="5017"/>
                  <a:pt x="12452" y="5283"/>
                </a:cubicBezTo>
                <a:cubicBezTo>
                  <a:pt x="12452" y="5324"/>
                  <a:pt x="12452" y="5366"/>
                  <a:pt x="12452" y="5407"/>
                </a:cubicBezTo>
              </a:path>
              <a:path w="2630" h="1911">
                <a:moveTo>
                  <a:pt x="11584" y="5804"/>
                </a:moveTo>
                <a:cubicBezTo>
                  <a:pt x="11914" y="5682"/>
                  <a:pt x="12245" y="5572"/>
                  <a:pt x="12576" y="5457"/>
                </a:cubicBezTo>
              </a:path>
              <a:path w="2630" h="1911">
                <a:moveTo>
                  <a:pt x="12055" y="5904"/>
                </a:moveTo>
                <a:cubicBezTo>
                  <a:pt x="12081" y="5800"/>
                  <a:pt x="12239" y="5801"/>
                  <a:pt x="12328" y="5779"/>
                </a:cubicBezTo>
                <a:cubicBezTo>
                  <a:pt x="12473" y="5974"/>
                  <a:pt x="12453" y="6174"/>
                  <a:pt x="12204" y="6325"/>
                </a:cubicBezTo>
                <a:cubicBezTo>
                  <a:pt x="12025" y="6393"/>
                  <a:pt x="11979" y="6421"/>
                  <a:pt x="11857" y="6375"/>
                </a:cubicBezTo>
                <a:cubicBezTo>
                  <a:pt x="11839" y="6184"/>
                  <a:pt x="12082" y="6116"/>
                  <a:pt x="12303" y="6152"/>
                </a:cubicBezTo>
                <a:cubicBezTo>
                  <a:pt x="12420" y="6171"/>
                  <a:pt x="12485" y="6272"/>
                  <a:pt x="12502" y="6375"/>
                </a:cubicBezTo>
              </a:path>
              <a:path w="2630" h="1911">
                <a:moveTo>
                  <a:pt x="12948" y="5432"/>
                </a:moveTo>
                <a:cubicBezTo>
                  <a:pt x="12973" y="5686"/>
                  <a:pt x="12957" y="5922"/>
                  <a:pt x="12948" y="6176"/>
                </a:cubicBezTo>
                <a:cubicBezTo>
                  <a:pt x="12948" y="6184"/>
                  <a:pt x="12948" y="6193"/>
                  <a:pt x="12948" y="6201"/>
                </a:cubicBezTo>
              </a:path>
              <a:path w="2630" h="1911">
                <a:moveTo>
                  <a:pt x="13767" y="5234"/>
                </a:moveTo>
                <a:cubicBezTo>
                  <a:pt x="13749" y="5398"/>
                  <a:pt x="13744" y="5520"/>
                  <a:pt x="13767" y="5680"/>
                </a:cubicBezTo>
              </a:path>
              <a:path w="2630" h="1911">
                <a:moveTo>
                  <a:pt x="13543" y="5407"/>
                </a:moveTo>
                <a:cubicBezTo>
                  <a:pt x="13734" y="5369"/>
                  <a:pt x="13921" y="5316"/>
                  <a:pt x="14114" y="5283"/>
                </a:cubicBezTo>
              </a:path>
              <a:path w="2630" h="1911">
                <a:moveTo>
                  <a:pt x="13742" y="4961"/>
                </a:moveTo>
                <a:cubicBezTo>
                  <a:pt x="13742" y="4895"/>
                  <a:pt x="13735" y="5044"/>
                  <a:pt x="13742" y="5110"/>
                </a:cubicBezTo>
                <a:cubicBezTo>
                  <a:pt x="13760" y="5278"/>
                  <a:pt x="13767" y="5437"/>
                  <a:pt x="13767" y="5606"/>
                </a:cubicBezTo>
                <a:cubicBezTo>
                  <a:pt x="13767" y="5631"/>
                  <a:pt x="13767" y="5639"/>
                  <a:pt x="13767" y="5655"/>
                </a:cubicBezTo>
              </a:path>
              <a:path w="2630" h="1911">
                <a:moveTo>
                  <a:pt x="13395" y="5606"/>
                </a:moveTo>
                <a:cubicBezTo>
                  <a:pt x="13518" y="5496"/>
                  <a:pt x="13641" y="5472"/>
                  <a:pt x="13791" y="5407"/>
                </a:cubicBezTo>
                <a:cubicBezTo>
                  <a:pt x="13941" y="5342"/>
                  <a:pt x="14025" y="5308"/>
                  <a:pt x="14188" y="5308"/>
                </a:cubicBezTo>
                <a:cubicBezTo>
                  <a:pt x="14196" y="5308"/>
                  <a:pt x="14205" y="5308"/>
                  <a:pt x="14213" y="5308"/>
                </a:cubicBezTo>
              </a:path>
              <a:path w="2630" h="1911">
                <a:moveTo>
                  <a:pt x="12502" y="5655"/>
                </a:moveTo>
                <a:cubicBezTo>
                  <a:pt x="12502" y="5647"/>
                  <a:pt x="12502" y="5639"/>
                  <a:pt x="12502" y="5631"/>
                </a:cubicBezTo>
              </a:path>
              <a:path w="2630" h="1911">
                <a:moveTo>
                  <a:pt x="12402" y="5556"/>
                </a:moveTo>
                <a:cubicBezTo>
                  <a:pt x="12384" y="5480"/>
                  <a:pt x="12594" y="5432"/>
                  <a:pt x="12675" y="5407"/>
                </a:cubicBezTo>
                <a:cubicBezTo>
                  <a:pt x="12822" y="5361"/>
                  <a:pt x="12969" y="5298"/>
                  <a:pt x="13122" y="5283"/>
                </a:cubicBezTo>
              </a:path>
              <a:path w="2630" h="1911">
                <a:moveTo>
                  <a:pt x="12179" y="4738"/>
                </a:moveTo>
                <a:cubicBezTo>
                  <a:pt x="12179" y="4763"/>
                  <a:pt x="12179" y="4787"/>
                  <a:pt x="12179" y="4812"/>
                </a:cubicBezTo>
              </a:path>
              <a:path w="2630" h="1911">
                <a:moveTo>
                  <a:pt x="13866" y="5581"/>
                </a:moveTo>
                <a:cubicBezTo>
                  <a:pt x="13874" y="5581"/>
                  <a:pt x="13883" y="5581"/>
                  <a:pt x="13891" y="5581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9800" y="1393920"/>
            <a:ext cx="911160" cy="812880"/>
          </a:xfrm>
          <a:custGeom>
            <a:avLst/>
            <a:gdLst/>
            <a:ahLst/>
            <a:rect l="l" t="t" r="r" b="b"/>
            <a:pathLst>
              <a:path w="2532" h="2258">
                <a:moveTo>
                  <a:pt x="15329" y="5358"/>
                </a:moveTo>
                <a:cubicBezTo>
                  <a:pt x="15402" y="5431"/>
                  <a:pt x="15473" y="5342"/>
                  <a:pt x="15503" y="5531"/>
                </a:cubicBezTo>
                <a:cubicBezTo>
                  <a:pt x="15543" y="5787"/>
                  <a:pt x="15352" y="6055"/>
                  <a:pt x="15106" y="6127"/>
                </a:cubicBezTo>
                <a:cubicBezTo>
                  <a:pt x="15089" y="6119"/>
                  <a:pt x="15073" y="6110"/>
                  <a:pt x="15056" y="6102"/>
                </a:cubicBezTo>
                <a:cubicBezTo>
                  <a:pt x="15124" y="5873"/>
                  <a:pt x="15312" y="5773"/>
                  <a:pt x="15577" y="5829"/>
                </a:cubicBezTo>
                <a:cubicBezTo>
                  <a:pt x="15745" y="5865"/>
                  <a:pt x="15721" y="5975"/>
                  <a:pt x="15825" y="6028"/>
                </a:cubicBezTo>
              </a:path>
              <a:path w="2532" h="2258">
                <a:moveTo>
                  <a:pt x="16123" y="5407"/>
                </a:moveTo>
                <a:cubicBezTo>
                  <a:pt x="16145" y="5599"/>
                  <a:pt x="16211" y="5798"/>
                  <a:pt x="16049" y="5879"/>
                </a:cubicBezTo>
              </a:path>
              <a:path w="2532" h="2258">
                <a:moveTo>
                  <a:pt x="15180" y="5085"/>
                </a:moveTo>
                <a:cubicBezTo>
                  <a:pt x="15389" y="5085"/>
                  <a:pt x="15593" y="5066"/>
                  <a:pt x="15801" y="5060"/>
                </a:cubicBezTo>
                <a:cubicBezTo>
                  <a:pt x="15979" y="5055"/>
                  <a:pt x="16145" y="5046"/>
                  <a:pt x="16321" y="5035"/>
                </a:cubicBezTo>
              </a:path>
              <a:path w="2532" h="2258">
                <a:moveTo>
                  <a:pt x="15503" y="4167"/>
                </a:moveTo>
                <a:cubicBezTo>
                  <a:pt x="15472" y="4292"/>
                  <a:pt x="15380" y="4463"/>
                  <a:pt x="15329" y="4589"/>
                </a:cubicBezTo>
                <a:cubicBezTo>
                  <a:pt x="15269" y="4729"/>
                  <a:pt x="15256" y="4752"/>
                  <a:pt x="15230" y="4837"/>
                </a:cubicBezTo>
              </a:path>
              <a:path w="2532" h="2258">
                <a:moveTo>
                  <a:pt x="15875" y="4093"/>
                </a:moveTo>
                <a:cubicBezTo>
                  <a:pt x="15857" y="4143"/>
                  <a:pt x="15835" y="4192"/>
                  <a:pt x="15825" y="4242"/>
                </a:cubicBezTo>
                <a:cubicBezTo>
                  <a:pt x="15918" y="4288"/>
                  <a:pt x="16074" y="4321"/>
                  <a:pt x="16148" y="4390"/>
                </a:cubicBezTo>
                <a:cubicBezTo>
                  <a:pt x="16300" y="4532"/>
                  <a:pt x="15907" y="4648"/>
                  <a:pt x="15850" y="4663"/>
                </a:cubicBezTo>
                <a:cubicBezTo>
                  <a:pt x="15717" y="4685"/>
                  <a:pt x="15683" y="4698"/>
                  <a:pt x="15602" y="4663"/>
                </a:cubicBezTo>
              </a:path>
              <a:path w="2532" h="2258">
                <a:moveTo>
                  <a:pt x="15974" y="4068"/>
                </a:moveTo>
                <a:cubicBezTo>
                  <a:pt x="16097" y="3969"/>
                  <a:pt x="16223" y="3946"/>
                  <a:pt x="16371" y="3894"/>
                </a:cubicBezTo>
                <a:cubicBezTo>
                  <a:pt x="16388" y="3886"/>
                  <a:pt x="16404" y="3878"/>
                  <a:pt x="16421" y="3870"/>
                </a:cubicBezTo>
              </a:path>
              <a:path w="2532" h="2258">
                <a:moveTo>
                  <a:pt x="16942" y="5085"/>
                </a:moveTo>
                <a:cubicBezTo>
                  <a:pt x="17030" y="5085"/>
                  <a:pt x="17103" y="5077"/>
                  <a:pt x="17190" y="5060"/>
                </a:cubicBezTo>
                <a:cubicBezTo>
                  <a:pt x="17303" y="5038"/>
                  <a:pt x="17338" y="5026"/>
                  <a:pt x="17438" y="5060"/>
                </a:cubicBezTo>
              </a:path>
              <a:path w="2532" h="2258">
                <a:moveTo>
                  <a:pt x="17090" y="5432"/>
                </a:moveTo>
                <a:cubicBezTo>
                  <a:pt x="17258" y="5398"/>
                  <a:pt x="17423" y="5338"/>
                  <a:pt x="17587" y="5308"/>
                </a:cubicBezTo>
              </a:path>
              <a:path w="2532" h="2258">
                <a:moveTo>
                  <a:pt x="15925" y="4589"/>
                </a:moveTo>
                <a:cubicBezTo>
                  <a:pt x="15925" y="4614"/>
                  <a:pt x="15925" y="4622"/>
                  <a:pt x="15949" y="461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75640" y="1285920"/>
            <a:ext cx="465120" cy="866880"/>
          </a:xfrm>
          <a:custGeom>
            <a:avLst/>
            <a:gdLst/>
            <a:ahLst/>
            <a:rect l="l" t="t" r="r" b="b"/>
            <a:pathLst>
              <a:path w="1290" h="2407">
                <a:moveTo>
                  <a:pt x="19621" y="3969"/>
                </a:moveTo>
                <a:cubicBezTo>
                  <a:pt x="19560" y="4024"/>
                  <a:pt x="19512" y="4081"/>
                  <a:pt x="19472" y="4068"/>
                </a:cubicBezTo>
                <a:cubicBezTo>
                  <a:pt x="19586" y="3985"/>
                  <a:pt x="19783" y="3897"/>
                  <a:pt x="19769" y="4142"/>
                </a:cubicBezTo>
                <a:cubicBezTo>
                  <a:pt x="19756" y="4378"/>
                  <a:pt x="19479" y="4656"/>
                  <a:pt x="19248" y="4688"/>
                </a:cubicBezTo>
                <a:cubicBezTo>
                  <a:pt x="19207" y="4680"/>
                  <a:pt x="19165" y="4671"/>
                  <a:pt x="19124" y="4663"/>
                </a:cubicBezTo>
                <a:cubicBezTo>
                  <a:pt x="19097" y="4472"/>
                  <a:pt x="19147" y="4350"/>
                  <a:pt x="19372" y="4341"/>
                </a:cubicBezTo>
                <a:cubicBezTo>
                  <a:pt x="19554" y="4334"/>
                  <a:pt x="19608" y="4424"/>
                  <a:pt x="19670" y="4564"/>
                </a:cubicBezTo>
              </a:path>
              <a:path w="1290" h="2407">
                <a:moveTo>
                  <a:pt x="20365" y="3795"/>
                </a:moveTo>
                <a:cubicBezTo>
                  <a:pt x="20365" y="3705"/>
                  <a:pt x="20376" y="3643"/>
                  <a:pt x="20340" y="3572"/>
                </a:cubicBezTo>
                <a:cubicBezTo>
                  <a:pt x="20114" y="3685"/>
                  <a:pt x="20057" y="3819"/>
                  <a:pt x="20017" y="4068"/>
                </a:cubicBezTo>
                <a:cubicBezTo>
                  <a:pt x="19982" y="4286"/>
                  <a:pt x="20272" y="4091"/>
                  <a:pt x="20315" y="4018"/>
                </a:cubicBezTo>
                <a:cubicBezTo>
                  <a:pt x="20332" y="3969"/>
                  <a:pt x="20348" y="3919"/>
                  <a:pt x="20365" y="3870"/>
                </a:cubicBezTo>
                <a:cubicBezTo>
                  <a:pt x="20373" y="3853"/>
                  <a:pt x="20381" y="3837"/>
                  <a:pt x="20389" y="3820"/>
                </a:cubicBezTo>
                <a:cubicBezTo>
                  <a:pt x="20356" y="3957"/>
                  <a:pt x="20354" y="4140"/>
                  <a:pt x="20340" y="4291"/>
                </a:cubicBezTo>
                <a:cubicBezTo>
                  <a:pt x="20318" y="4519"/>
                  <a:pt x="20287" y="4661"/>
                  <a:pt x="20191" y="4862"/>
                </a:cubicBezTo>
              </a:path>
              <a:path w="1290" h="2407">
                <a:moveTo>
                  <a:pt x="19199" y="5135"/>
                </a:moveTo>
                <a:cubicBezTo>
                  <a:pt x="19567" y="5029"/>
                  <a:pt x="19978" y="4846"/>
                  <a:pt x="20365" y="4837"/>
                </a:cubicBezTo>
                <a:cubicBezTo>
                  <a:pt x="20373" y="4845"/>
                  <a:pt x="20381" y="4854"/>
                  <a:pt x="20389" y="4862"/>
                </a:cubicBezTo>
              </a:path>
              <a:path w="1290" h="2407">
                <a:moveTo>
                  <a:pt x="19397" y="5333"/>
                </a:moveTo>
                <a:cubicBezTo>
                  <a:pt x="19334" y="5333"/>
                  <a:pt x="19535" y="5280"/>
                  <a:pt x="19571" y="5283"/>
                </a:cubicBezTo>
                <a:cubicBezTo>
                  <a:pt x="19783" y="5299"/>
                  <a:pt x="19858" y="5485"/>
                  <a:pt x="19720" y="5655"/>
                </a:cubicBezTo>
                <a:cubicBezTo>
                  <a:pt x="19568" y="5842"/>
                  <a:pt x="19290" y="5965"/>
                  <a:pt x="19100" y="5879"/>
                </a:cubicBezTo>
                <a:cubicBezTo>
                  <a:pt x="19151" y="5747"/>
                  <a:pt x="19234" y="5571"/>
                  <a:pt x="19422" y="5655"/>
                </a:cubicBezTo>
                <a:cubicBezTo>
                  <a:pt x="19544" y="5709"/>
                  <a:pt x="19660" y="5841"/>
                  <a:pt x="19720" y="5953"/>
                </a:cubicBezTo>
                <a:cubicBezTo>
                  <a:pt x="19720" y="5999"/>
                  <a:pt x="19738" y="5996"/>
                  <a:pt x="19794" y="5928"/>
                </a:cubicBezTo>
              </a:path>
              <a:path w="1290" h="2407">
                <a:moveTo>
                  <a:pt x="20191" y="5259"/>
                </a:moveTo>
                <a:cubicBezTo>
                  <a:pt x="20191" y="5477"/>
                  <a:pt x="20198" y="5689"/>
                  <a:pt x="20216" y="5904"/>
                </a:cubicBezTo>
                <a:cubicBezTo>
                  <a:pt x="20216" y="5929"/>
                  <a:pt x="20216" y="5953"/>
                  <a:pt x="20216" y="5978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2527200"/>
            <a:ext cx="295200" cy="241560"/>
          </a:xfrm>
          <a:custGeom>
            <a:avLst/>
            <a:gdLst/>
            <a:ahLst/>
            <a:rect l="l" t="t" r="r" b="b"/>
            <a:pathLst>
              <a:path w="819" h="670">
                <a:moveTo>
                  <a:pt x="3820" y="7169"/>
                </a:moveTo>
                <a:cubicBezTo>
                  <a:pt x="3820" y="7209"/>
                  <a:pt x="3874" y="7045"/>
                  <a:pt x="3919" y="7020"/>
                </a:cubicBezTo>
                <a:cubicBezTo>
                  <a:pt x="3944" y="7020"/>
                  <a:pt x="3969" y="7020"/>
                  <a:pt x="3994" y="7020"/>
                </a:cubicBezTo>
                <a:cubicBezTo>
                  <a:pt x="4152" y="7209"/>
                  <a:pt x="4062" y="7377"/>
                  <a:pt x="3894" y="7565"/>
                </a:cubicBezTo>
                <a:cubicBezTo>
                  <a:pt x="3774" y="7699"/>
                  <a:pt x="3730" y="7691"/>
                  <a:pt x="3597" y="7640"/>
                </a:cubicBezTo>
                <a:cubicBezTo>
                  <a:pt x="3597" y="7457"/>
                  <a:pt x="3675" y="7371"/>
                  <a:pt x="3894" y="7417"/>
                </a:cubicBezTo>
                <a:cubicBezTo>
                  <a:pt x="4050" y="7450"/>
                  <a:pt x="4018" y="7543"/>
                  <a:pt x="4093" y="7615"/>
                </a:cubicBezTo>
                <a:cubicBezTo>
                  <a:pt x="4093" y="7607"/>
                  <a:pt x="4093" y="7598"/>
                  <a:pt x="4093" y="7590"/>
                </a:cubicBezTo>
              </a:path>
              <a:path w="819" h="670">
                <a:moveTo>
                  <a:pt x="4316" y="7094"/>
                </a:moveTo>
                <a:cubicBezTo>
                  <a:pt x="4365" y="7215"/>
                  <a:pt x="4386" y="7311"/>
                  <a:pt x="4390" y="7441"/>
                </a:cubicBezTo>
                <a:cubicBezTo>
                  <a:pt x="4390" y="7516"/>
                  <a:pt x="4390" y="7540"/>
                  <a:pt x="4390" y="7590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7960" y="2214720"/>
            <a:ext cx="384120" cy="447480"/>
          </a:xfrm>
          <a:custGeom>
            <a:avLst/>
            <a:gdLst/>
            <a:ahLst/>
            <a:rect l="l" t="t" r="r" b="b"/>
            <a:pathLst>
              <a:path w="1067" h="1241">
                <a:moveTo>
                  <a:pt x="8186" y="6921"/>
                </a:moveTo>
                <a:cubicBezTo>
                  <a:pt x="8186" y="6851"/>
                  <a:pt x="8200" y="6787"/>
                  <a:pt x="8285" y="6772"/>
                </a:cubicBezTo>
                <a:cubicBezTo>
                  <a:pt x="8474" y="6739"/>
                  <a:pt x="8540" y="6945"/>
                  <a:pt x="8458" y="7094"/>
                </a:cubicBezTo>
                <a:cubicBezTo>
                  <a:pt x="8343" y="7304"/>
                  <a:pt x="8143" y="7416"/>
                  <a:pt x="7938" y="7342"/>
                </a:cubicBezTo>
                <a:cubicBezTo>
                  <a:pt x="8009" y="7164"/>
                  <a:pt x="8102" y="7105"/>
                  <a:pt x="8310" y="7119"/>
                </a:cubicBezTo>
                <a:cubicBezTo>
                  <a:pt x="8477" y="7130"/>
                  <a:pt x="8431" y="7217"/>
                  <a:pt x="8533" y="7268"/>
                </a:cubicBezTo>
              </a:path>
              <a:path w="1067" h="1241">
                <a:moveTo>
                  <a:pt x="8880" y="6796"/>
                </a:moveTo>
                <a:cubicBezTo>
                  <a:pt x="8880" y="6957"/>
                  <a:pt x="8869" y="7113"/>
                  <a:pt x="8905" y="7268"/>
                </a:cubicBezTo>
              </a:path>
              <a:path w="1067" h="1241">
                <a:moveTo>
                  <a:pt x="7913" y="6375"/>
                </a:moveTo>
                <a:cubicBezTo>
                  <a:pt x="8089" y="6274"/>
                  <a:pt x="8284" y="6262"/>
                  <a:pt x="8483" y="6226"/>
                </a:cubicBezTo>
                <a:cubicBezTo>
                  <a:pt x="8649" y="6196"/>
                  <a:pt x="8809" y="6152"/>
                  <a:pt x="8979" y="615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24800" y="142920"/>
            <a:ext cx="1820880" cy="2027160"/>
          </a:xfrm>
          <a:custGeom>
            <a:avLst/>
            <a:gdLst/>
            <a:ahLst/>
            <a:rect l="l" t="t" r="r" b="b"/>
            <a:pathLst>
              <a:path w="5061" h="5632">
                <a:moveTo>
                  <a:pt x="20588" y="1637"/>
                </a:moveTo>
                <a:cubicBezTo>
                  <a:pt x="20588" y="1549"/>
                  <a:pt x="20610" y="1552"/>
                  <a:pt x="20687" y="1513"/>
                </a:cubicBezTo>
                <a:cubicBezTo>
                  <a:pt x="20821" y="1673"/>
                  <a:pt x="20833" y="1905"/>
                  <a:pt x="20712" y="2108"/>
                </a:cubicBezTo>
                <a:cubicBezTo>
                  <a:pt x="20617" y="2267"/>
                  <a:pt x="20495" y="2283"/>
                  <a:pt x="20340" y="2307"/>
                </a:cubicBezTo>
                <a:cubicBezTo>
                  <a:pt x="20330" y="2125"/>
                  <a:pt x="20382" y="1899"/>
                  <a:pt x="20638" y="1960"/>
                </a:cubicBezTo>
                <a:cubicBezTo>
                  <a:pt x="20768" y="1991"/>
                  <a:pt x="20786" y="2083"/>
                  <a:pt x="20836" y="2183"/>
                </a:cubicBezTo>
              </a:path>
              <a:path w="5061" h="5632">
                <a:moveTo>
                  <a:pt x="21307" y="1488"/>
                </a:moveTo>
                <a:cubicBezTo>
                  <a:pt x="21221" y="1424"/>
                  <a:pt x="21129" y="1428"/>
                  <a:pt x="21034" y="1513"/>
                </a:cubicBezTo>
                <a:cubicBezTo>
                  <a:pt x="20941" y="1596"/>
                  <a:pt x="20899" y="1713"/>
                  <a:pt x="20960" y="1786"/>
                </a:cubicBezTo>
                <a:cubicBezTo>
                  <a:pt x="21113" y="1751"/>
                  <a:pt x="21200" y="1657"/>
                  <a:pt x="21282" y="1513"/>
                </a:cubicBezTo>
                <a:cubicBezTo>
                  <a:pt x="21282" y="1505"/>
                  <a:pt x="21282" y="1496"/>
                  <a:pt x="21282" y="1488"/>
                </a:cubicBezTo>
                <a:cubicBezTo>
                  <a:pt x="21282" y="1672"/>
                  <a:pt x="21312" y="1911"/>
                  <a:pt x="21233" y="2084"/>
                </a:cubicBezTo>
                <a:cubicBezTo>
                  <a:pt x="21208" y="2117"/>
                  <a:pt x="21183" y="2150"/>
                  <a:pt x="21158" y="2183"/>
                </a:cubicBezTo>
              </a:path>
              <a:path w="5061" h="5632">
                <a:moveTo>
                  <a:pt x="20141" y="2654"/>
                </a:moveTo>
                <a:cubicBezTo>
                  <a:pt x="20049" y="2480"/>
                  <a:pt x="19964" y="2317"/>
                  <a:pt x="19893" y="2133"/>
                </a:cubicBezTo>
                <a:cubicBezTo>
                  <a:pt x="19862" y="2051"/>
                  <a:pt x="19784" y="1905"/>
                  <a:pt x="19819" y="1811"/>
                </a:cubicBezTo>
                <a:cubicBezTo>
                  <a:pt x="19844" y="1744"/>
                  <a:pt x="20006" y="1675"/>
                  <a:pt x="20067" y="1637"/>
                </a:cubicBezTo>
                <a:cubicBezTo>
                  <a:pt x="20359" y="1455"/>
                  <a:pt x="20646" y="1311"/>
                  <a:pt x="20985" y="1240"/>
                </a:cubicBezTo>
                <a:cubicBezTo>
                  <a:pt x="21151" y="1205"/>
                  <a:pt x="21277" y="1241"/>
                  <a:pt x="21431" y="1265"/>
                </a:cubicBezTo>
                <a:cubicBezTo>
                  <a:pt x="21448" y="1265"/>
                  <a:pt x="21464" y="1265"/>
                  <a:pt x="21481" y="1265"/>
                </a:cubicBezTo>
              </a:path>
              <a:path w="5061" h="5632">
                <a:moveTo>
                  <a:pt x="19124" y="2133"/>
                </a:moveTo>
                <a:cubicBezTo>
                  <a:pt x="19118" y="2162"/>
                  <a:pt x="19100" y="2327"/>
                  <a:pt x="19100" y="2208"/>
                </a:cubicBezTo>
                <a:cubicBezTo>
                  <a:pt x="19100" y="2181"/>
                  <a:pt x="19077" y="2060"/>
                  <a:pt x="19149" y="2108"/>
                </a:cubicBezTo>
                <a:cubicBezTo>
                  <a:pt x="19343" y="2238"/>
                  <a:pt x="19256" y="2422"/>
                  <a:pt x="19149" y="2580"/>
                </a:cubicBezTo>
                <a:cubicBezTo>
                  <a:pt x="19006" y="2791"/>
                  <a:pt x="18863" y="2821"/>
                  <a:pt x="18678" y="2679"/>
                </a:cubicBezTo>
                <a:cubicBezTo>
                  <a:pt x="18788" y="2496"/>
                  <a:pt x="18838" y="2459"/>
                  <a:pt x="19050" y="2530"/>
                </a:cubicBezTo>
                <a:cubicBezTo>
                  <a:pt x="19156" y="2565"/>
                  <a:pt x="19257" y="2594"/>
                  <a:pt x="19273" y="2704"/>
                </a:cubicBezTo>
              </a:path>
              <a:path w="5061" h="5632">
                <a:moveTo>
                  <a:pt x="19422" y="2158"/>
                </a:moveTo>
                <a:cubicBezTo>
                  <a:pt x="19441" y="2250"/>
                  <a:pt x="19495" y="2337"/>
                  <a:pt x="19521" y="2431"/>
                </a:cubicBezTo>
                <a:cubicBezTo>
                  <a:pt x="19547" y="2526"/>
                  <a:pt x="19608" y="2566"/>
                  <a:pt x="19521" y="2580"/>
                </a:cubicBezTo>
              </a:path>
              <a:path w="5061" h="5632">
                <a:moveTo>
                  <a:pt x="21134" y="446"/>
                </a:moveTo>
                <a:cubicBezTo>
                  <a:pt x="21121" y="407"/>
                  <a:pt x="21122" y="436"/>
                  <a:pt x="21109" y="397"/>
                </a:cubicBezTo>
                <a:cubicBezTo>
                  <a:pt x="21128" y="473"/>
                  <a:pt x="21135" y="559"/>
                  <a:pt x="21158" y="645"/>
                </a:cubicBezTo>
                <a:cubicBezTo>
                  <a:pt x="21198" y="793"/>
                  <a:pt x="21202" y="917"/>
                  <a:pt x="21233" y="1067"/>
                </a:cubicBezTo>
                <a:cubicBezTo>
                  <a:pt x="21263" y="1210"/>
                  <a:pt x="21282" y="1252"/>
                  <a:pt x="21282" y="1091"/>
                </a:cubicBezTo>
                <a:cubicBezTo>
                  <a:pt x="21282" y="1083"/>
                  <a:pt x="21282" y="1075"/>
                  <a:pt x="21282" y="1067"/>
                </a:cubicBezTo>
              </a:path>
              <a:path w="5061" h="5632">
                <a:moveTo>
                  <a:pt x="20762" y="2480"/>
                </a:moveTo>
                <a:cubicBezTo>
                  <a:pt x="20753" y="2444"/>
                  <a:pt x="20745" y="2411"/>
                  <a:pt x="20737" y="2431"/>
                </a:cubicBezTo>
                <a:cubicBezTo>
                  <a:pt x="20737" y="2439"/>
                  <a:pt x="20737" y="2448"/>
                  <a:pt x="20737" y="2456"/>
                </a:cubicBezTo>
                <a:cubicBezTo>
                  <a:pt x="20737" y="2392"/>
                  <a:pt x="20745" y="2406"/>
                  <a:pt x="20811" y="2406"/>
                </a:cubicBezTo>
                <a:cubicBezTo>
                  <a:pt x="20931" y="2406"/>
                  <a:pt x="20996" y="2483"/>
                  <a:pt x="20985" y="2604"/>
                </a:cubicBezTo>
                <a:cubicBezTo>
                  <a:pt x="20971" y="2761"/>
                  <a:pt x="20802" y="2865"/>
                  <a:pt x="20662" y="2902"/>
                </a:cubicBezTo>
                <a:cubicBezTo>
                  <a:pt x="20586" y="2922"/>
                  <a:pt x="20479" y="2829"/>
                  <a:pt x="20538" y="2753"/>
                </a:cubicBezTo>
                <a:cubicBezTo>
                  <a:pt x="20602" y="2671"/>
                  <a:pt x="20804" y="2704"/>
                  <a:pt x="20886" y="2704"/>
                </a:cubicBezTo>
                <a:cubicBezTo>
                  <a:pt x="20952" y="2704"/>
                  <a:pt x="20984" y="2718"/>
                  <a:pt x="21010" y="2679"/>
                </a:cubicBezTo>
              </a:path>
              <a:path w="5061" h="5632">
                <a:moveTo>
                  <a:pt x="21134" y="2356"/>
                </a:moveTo>
                <a:cubicBezTo>
                  <a:pt x="21152" y="2430"/>
                  <a:pt x="21218" y="2497"/>
                  <a:pt x="21233" y="2580"/>
                </a:cubicBezTo>
                <a:cubicBezTo>
                  <a:pt x="21233" y="2646"/>
                  <a:pt x="21233" y="2663"/>
                  <a:pt x="21233" y="2704"/>
                </a:cubicBezTo>
              </a:path>
              <a:path w="5061" h="5632">
                <a:moveTo>
                  <a:pt x="20216" y="2753"/>
                </a:moveTo>
                <a:cubicBezTo>
                  <a:pt x="20279" y="2733"/>
                  <a:pt x="20356" y="2685"/>
                  <a:pt x="20414" y="2679"/>
                </a:cubicBezTo>
                <a:cubicBezTo>
                  <a:pt x="20422" y="2679"/>
                  <a:pt x="20431" y="2679"/>
                  <a:pt x="20439" y="2679"/>
                </a:cubicBezTo>
              </a:path>
              <a:path w="5061" h="5632">
                <a:moveTo>
                  <a:pt x="20638" y="3150"/>
                </a:moveTo>
                <a:cubicBezTo>
                  <a:pt x="20814" y="3050"/>
                  <a:pt x="21018" y="2949"/>
                  <a:pt x="21208" y="2877"/>
                </a:cubicBezTo>
                <a:cubicBezTo>
                  <a:pt x="21276" y="2851"/>
                  <a:pt x="21424" y="2778"/>
                  <a:pt x="21506" y="2778"/>
                </a:cubicBezTo>
                <a:cubicBezTo>
                  <a:pt x="21530" y="2778"/>
                  <a:pt x="21538" y="2778"/>
                  <a:pt x="21530" y="2753"/>
                </a:cubicBezTo>
              </a:path>
              <a:path w="5061" h="5632">
                <a:moveTo>
                  <a:pt x="21654" y="3026"/>
                </a:moveTo>
                <a:cubicBezTo>
                  <a:pt x="21636" y="2970"/>
                  <a:pt x="21532" y="3001"/>
                  <a:pt x="21481" y="3026"/>
                </a:cubicBezTo>
                <a:cubicBezTo>
                  <a:pt x="21412" y="3072"/>
                  <a:pt x="21392" y="3084"/>
                  <a:pt x="21357" y="3125"/>
                </a:cubicBezTo>
                <a:cubicBezTo>
                  <a:pt x="21376" y="3163"/>
                  <a:pt x="21432" y="3215"/>
                  <a:pt x="21481" y="3225"/>
                </a:cubicBezTo>
                <a:cubicBezTo>
                  <a:pt x="21525" y="3234"/>
                  <a:pt x="21523" y="3247"/>
                  <a:pt x="21555" y="3249"/>
                </a:cubicBezTo>
                <a:cubicBezTo>
                  <a:pt x="21613" y="3252"/>
                  <a:pt x="21757" y="3268"/>
                  <a:pt x="21803" y="3299"/>
                </a:cubicBezTo>
                <a:cubicBezTo>
                  <a:pt x="21814" y="3306"/>
                  <a:pt x="21854" y="3374"/>
                  <a:pt x="21878" y="3398"/>
                </a:cubicBezTo>
                <a:cubicBezTo>
                  <a:pt x="21851" y="3445"/>
                  <a:pt x="21829" y="3481"/>
                  <a:pt x="21779" y="3497"/>
                </a:cubicBezTo>
                <a:cubicBezTo>
                  <a:pt x="21736" y="3511"/>
                  <a:pt x="21663" y="3452"/>
                  <a:pt x="21654" y="3448"/>
                </a:cubicBezTo>
                <a:cubicBezTo>
                  <a:pt x="21622" y="3434"/>
                  <a:pt x="21618" y="3398"/>
                  <a:pt x="21630" y="3349"/>
                </a:cubicBezTo>
                <a:cubicBezTo>
                  <a:pt x="21655" y="3247"/>
                  <a:pt x="21735" y="3177"/>
                  <a:pt x="21754" y="3076"/>
                </a:cubicBezTo>
                <a:cubicBezTo>
                  <a:pt x="21768" y="2999"/>
                  <a:pt x="21771" y="2955"/>
                  <a:pt x="21704" y="2952"/>
                </a:cubicBezTo>
                <a:cubicBezTo>
                  <a:pt x="21679" y="2952"/>
                  <a:pt x="21655" y="2952"/>
                  <a:pt x="21630" y="2952"/>
                </a:cubicBezTo>
              </a:path>
              <a:path w="5061" h="5632">
                <a:moveTo>
                  <a:pt x="21059" y="4762"/>
                </a:moveTo>
                <a:cubicBezTo>
                  <a:pt x="21200" y="4762"/>
                  <a:pt x="21340" y="4762"/>
                  <a:pt x="21481" y="4762"/>
                </a:cubicBezTo>
              </a:path>
              <a:path w="5061" h="5632">
                <a:moveTo>
                  <a:pt x="21183" y="5035"/>
                </a:moveTo>
                <a:cubicBezTo>
                  <a:pt x="21359" y="5025"/>
                  <a:pt x="21510" y="4988"/>
                  <a:pt x="21679" y="4936"/>
                </a:cubicBezTo>
              </a:path>
              <a:path w="5061" h="5632">
                <a:moveTo>
                  <a:pt x="21952" y="4093"/>
                </a:moveTo>
                <a:cubicBezTo>
                  <a:pt x="21875" y="4119"/>
                  <a:pt x="21949" y="4480"/>
                  <a:pt x="21952" y="4514"/>
                </a:cubicBezTo>
                <a:cubicBezTo>
                  <a:pt x="21978" y="4792"/>
                  <a:pt x="21967" y="5084"/>
                  <a:pt x="22002" y="5358"/>
                </a:cubicBezTo>
                <a:cubicBezTo>
                  <a:pt x="22009" y="5408"/>
                  <a:pt x="22027" y="5465"/>
                  <a:pt x="22051" y="5482"/>
                </a:cubicBezTo>
              </a:path>
              <a:path w="5061" h="5632">
                <a:moveTo>
                  <a:pt x="22920" y="3671"/>
                </a:moveTo>
                <a:cubicBezTo>
                  <a:pt x="22830" y="3653"/>
                  <a:pt x="22712" y="3647"/>
                  <a:pt x="22622" y="3696"/>
                </a:cubicBezTo>
                <a:cubicBezTo>
                  <a:pt x="22514" y="3755"/>
                  <a:pt x="22386" y="3878"/>
                  <a:pt x="22423" y="3994"/>
                </a:cubicBezTo>
                <a:cubicBezTo>
                  <a:pt x="22541" y="3987"/>
                  <a:pt x="22791" y="3892"/>
                  <a:pt x="22895" y="3944"/>
                </a:cubicBezTo>
                <a:cubicBezTo>
                  <a:pt x="23017" y="4005"/>
                  <a:pt x="22919" y="4136"/>
                  <a:pt x="22870" y="4192"/>
                </a:cubicBezTo>
                <a:cubicBezTo>
                  <a:pt x="22773" y="4123"/>
                  <a:pt x="22737" y="4048"/>
                  <a:pt x="22746" y="3919"/>
                </a:cubicBezTo>
                <a:cubicBezTo>
                  <a:pt x="22770" y="3800"/>
                  <a:pt x="22776" y="3764"/>
                  <a:pt x="22820" y="3696"/>
                </a:cubicBezTo>
              </a:path>
              <a:path w="5061" h="5632">
                <a:moveTo>
                  <a:pt x="22597" y="4614"/>
                </a:moveTo>
                <a:cubicBezTo>
                  <a:pt x="22684" y="4580"/>
                  <a:pt x="23009" y="4357"/>
                  <a:pt x="23093" y="4390"/>
                </a:cubicBezTo>
                <a:cubicBezTo>
                  <a:pt x="23093" y="4415"/>
                  <a:pt x="23093" y="4440"/>
                  <a:pt x="23093" y="4465"/>
                </a:cubicBezTo>
              </a:path>
              <a:path w="5061" h="5632">
                <a:moveTo>
                  <a:pt x="22696" y="4887"/>
                </a:moveTo>
                <a:cubicBezTo>
                  <a:pt x="22793" y="4908"/>
                  <a:pt x="22903" y="4942"/>
                  <a:pt x="22895" y="5060"/>
                </a:cubicBezTo>
                <a:cubicBezTo>
                  <a:pt x="22886" y="5205"/>
                  <a:pt x="22751" y="5280"/>
                  <a:pt x="22622" y="5308"/>
                </a:cubicBezTo>
                <a:cubicBezTo>
                  <a:pt x="22605" y="5308"/>
                  <a:pt x="22589" y="5308"/>
                  <a:pt x="22572" y="5308"/>
                </a:cubicBezTo>
                <a:cubicBezTo>
                  <a:pt x="22572" y="5229"/>
                  <a:pt x="22590" y="5210"/>
                  <a:pt x="22671" y="5184"/>
                </a:cubicBezTo>
                <a:cubicBezTo>
                  <a:pt x="22750" y="5159"/>
                  <a:pt x="22847" y="5140"/>
                  <a:pt x="22870" y="5234"/>
                </a:cubicBezTo>
              </a:path>
              <a:path w="5061" h="5632">
                <a:moveTo>
                  <a:pt x="23044" y="4812"/>
                </a:moveTo>
                <a:cubicBezTo>
                  <a:pt x="23078" y="4922"/>
                  <a:pt x="23130" y="5022"/>
                  <a:pt x="23143" y="5135"/>
                </a:cubicBezTo>
              </a:path>
              <a:path w="5061" h="5632">
                <a:moveTo>
                  <a:pt x="22299" y="6028"/>
                </a:moveTo>
                <a:cubicBezTo>
                  <a:pt x="22568" y="5905"/>
                  <a:pt x="22799" y="5771"/>
                  <a:pt x="23044" y="5606"/>
                </a:cubicBezTo>
                <a:cubicBezTo>
                  <a:pt x="23268" y="5455"/>
                  <a:pt x="23400" y="5288"/>
                  <a:pt x="23540" y="5060"/>
                </a:cubicBezTo>
                <a:cubicBezTo>
                  <a:pt x="23668" y="4852"/>
                  <a:pt x="23680" y="4653"/>
                  <a:pt x="23713" y="4415"/>
                </a:cubicBezTo>
                <a:cubicBezTo>
                  <a:pt x="23741" y="4212"/>
                  <a:pt x="23728" y="4016"/>
                  <a:pt x="23664" y="3820"/>
                </a:cubicBezTo>
                <a:cubicBezTo>
                  <a:pt x="23587" y="3583"/>
                  <a:pt x="23439" y="3518"/>
                  <a:pt x="23217" y="3448"/>
                </a:cubicBezTo>
                <a:cubicBezTo>
                  <a:pt x="23121" y="3418"/>
                  <a:pt x="23034" y="3366"/>
                  <a:pt x="22944" y="3324"/>
                </a:cubicBezTo>
                <a:cubicBezTo>
                  <a:pt x="22790" y="3251"/>
                  <a:pt x="22681" y="3250"/>
                  <a:pt x="22523" y="3299"/>
                </a:cubicBezTo>
                <a:cubicBezTo>
                  <a:pt x="22270" y="3377"/>
                  <a:pt x="22111" y="3466"/>
                  <a:pt x="21977" y="3696"/>
                </a:cubicBezTo>
                <a:cubicBezTo>
                  <a:pt x="21829" y="3950"/>
                  <a:pt x="21777" y="4277"/>
                  <a:pt x="21729" y="4564"/>
                </a:cubicBezTo>
                <a:cubicBezTo>
                  <a:pt x="21693" y="4777"/>
                  <a:pt x="21689" y="4996"/>
                  <a:pt x="21729" y="5209"/>
                </a:cubicBezTo>
                <a:cubicBezTo>
                  <a:pt x="21759" y="5368"/>
                  <a:pt x="21811" y="5508"/>
                  <a:pt x="21878" y="5655"/>
                </a:cubicBezTo>
                <a:cubicBezTo>
                  <a:pt x="21947" y="5806"/>
                  <a:pt x="22034" y="5860"/>
                  <a:pt x="22200" y="5879"/>
                </a:cubicBezTo>
                <a:cubicBezTo>
                  <a:pt x="22286" y="5889"/>
                  <a:pt x="22399" y="5895"/>
                  <a:pt x="22473" y="5904"/>
                </a:cubicBezTo>
                <a:cubicBezTo>
                  <a:pt x="22498" y="5904"/>
                  <a:pt x="22506" y="5904"/>
                  <a:pt x="22523" y="590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0200" y="2652840"/>
            <a:ext cx="2197080" cy="1741320"/>
          </a:xfrm>
          <a:custGeom>
            <a:avLst/>
            <a:gdLst/>
            <a:ahLst/>
            <a:rect l="l" t="t" r="r" b="b"/>
            <a:pathLst>
              <a:path w="6103" h="4838">
                <a:moveTo>
                  <a:pt x="11584" y="7813"/>
                </a:moveTo>
                <a:cubicBezTo>
                  <a:pt x="11568" y="7768"/>
                  <a:pt x="11549" y="7810"/>
                  <a:pt x="11534" y="7764"/>
                </a:cubicBezTo>
                <a:cubicBezTo>
                  <a:pt x="11601" y="7697"/>
                  <a:pt x="11637" y="7672"/>
                  <a:pt x="11733" y="7665"/>
                </a:cubicBezTo>
                <a:cubicBezTo>
                  <a:pt x="11741" y="7665"/>
                  <a:pt x="11749" y="7665"/>
                  <a:pt x="11757" y="7665"/>
                </a:cubicBezTo>
                <a:cubicBezTo>
                  <a:pt x="11757" y="7830"/>
                  <a:pt x="11706" y="7855"/>
                  <a:pt x="11609" y="7987"/>
                </a:cubicBezTo>
                <a:cubicBezTo>
                  <a:pt x="11495" y="8143"/>
                  <a:pt x="11540" y="8029"/>
                  <a:pt x="11633" y="8062"/>
                </a:cubicBezTo>
                <a:cubicBezTo>
                  <a:pt x="11795" y="8120"/>
                  <a:pt x="11719" y="8313"/>
                  <a:pt x="11609" y="8384"/>
                </a:cubicBezTo>
                <a:cubicBezTo>
                  <a:pt x="11514" y="8445"/>
                  <a:pt x="11360" y="8442"/>
                  <a:pt x="11261" y="8409"/>
                </a:cubicBezTo>
              </a:path>
              <a:path w="6103" h="4838">
                <a:moveTo>
                  <a:pt x="12452" y="7491"/>
                </a:moveTo>
                <a:cubicBezTo>
                  <a:pt x="12422" y="7601"/>
                  <a:pt x="12401" y="7721"/>
                  <a:pt x="12378" y="7838"/>
                </a:cubicBezTo>
                <a:cubicBezTo>
                  <a:pt x="12378" y="7846"/>
                  <a:pt x="12378" y="7855"/>
                  <a:pt x="12378" y="7863"/>
                </a:cubicBezTo>
              </a:path>
              <a:path w="6103" h="4838">
                <a:moveTo>
                  <a:pt x="12055" y="8012"/>
                </a:moveTo>
                <a:cubicBezTo>
                  <a:pt x="12199" y="7996"/>
                  <a:pt x="12332" y="7967"/>
                  <a:pt x="12477" y="7962"/>
                </a:cubicBezTo>
                <a:cubicBezTo>
                  <a:pt x="12493" y="7962"/>
                  <a:pt x="12510" y="7962"/>
                  <a:pt x="12526" y="7962"/>
                </a:cubicBezTo>
              </a:path>
              <a:path w="6103" h="4838">
                <a:moveTo>
                  <a:pt x="12105" y="8359"/>
                </a:moveTo>
                <a:cubicBezTo>
                  <a:pt x="12204" y="8359"/>
                  <a:pt x="12315" y="8334"/>
                  <a:pt x="12328" y="8458"/>
                </a:cubicBezTo>
                <a:cubicBezTo>
                  <a:pt x="12347" y="8633"/>
                  <a:pt x="12159" y="8706"/>
                  <a:pt x="12005" y="8706"/>
                </a:cubicBezTo>
                <a:cubicBezTo>
                  <a:pt x="11972" y="8698"/>
                  <a:pt x="11939" y="8690"/>
                  <a:pt x="11906" y="8682"/>
                </a:cubicBezTo>
                <a:cubicBezTo>
                  <a:pt x="11924" y="8558"/>
                  <a:pt x="12016" y="8560"/>
                  <a:pt x="12129" y="8582"/>
                </a:cubicBezTo>
                <a:cubicBezTo>
                  <a:pt x="12199" y="8595"/>
                  <a:pt x="12215" y="8602"/>
                  <a:pt x="12229" y="8657"/>
                </a:cubicBezTo>
              </a:path>
              <a:path w="6103" h="4838">
                <a:moveTo>
                  <a:pt x="10368" y="9748"/>
                </a:moveTo>
                <a:cubicBezTo>
                  <a:pt x="10319" y="9850"/>
                  <a:pt x="10322" y="10002"/>
                  <a:pt x="10294" y="10120"/>
                </a:cubicBezTo>
                <a:cubicBezTo>
                  <a:pt x="10275" y="10178"/>
                  <a:pt x="10266" y="10185"/>
                  <a:pt x="10269" y="10220"/>
                </a:cubicBezTo>
              </a:path>
              <a:path w="6103" h="4838">
                <a:moveTo>
                  <a:pt x="10195" y="10046"/>
                </a:moveTo>
                <a:cubicBezTo>
                  <a:pt x="10312" y="10008"/>
                  <a:pt x="10398" y="9980"/>
                  <a:pt x="10517" y="9971"/>
                </a:cubicBezTo>
              </a:path>
              <a:path w="6103" h="4838">
                <a:moveTo>
                  <a:pt x="10840" y="9599"/>
                </a:moveTo>
                <a:cubicBezTo>
                  <a:pt x="10840" y="9803"/>
                  <a:pt x="10790" y="9950"/>
                  <a:pt x="10740" y="10145"/>
                </a:cubicBezTo>
                <a:cubicBezTo>
                  <a:pt x="10725" y="10202"/>
                  <a:pt x="10716" y="10328"/>
                  <a:pt x="10716" y="10269"/>
                </a:cubicBezTo>
              </a:path>
              <a:path w="6103" h="4838">
                <a:moveTo>
                  <a:pt x="11261" y="9525"/>
                </a:moveTo>
                <a:cubicBezTo>
                  <a:pt x="11225" y="9654"/>
                  <a:pt x="11185" y="9772"/>
                  <a:pt x="11137" y="9897"/>
                </a:cubicBezTo>
                <a:cubicBezTo>
                  <a:pt x="11245" y="9875"/>
                  <a:pt x="11354" y="9834"/>
                  <a:pt x="11460" y="9798"/>
                </a:cubicBezTo>
                <a:cubicBezTo>
                  <a:pt x="11485" y="9790"/>
                  <a:pt x="11509" y="9781"/>
                  <a:pt x="11534" y="9773"/>
                </a:cubicBezTo>
              </a:path>
              <a:path w="6103" h="4838">
                <a:moveTo>
                  <a:pt x="11485" y="9376"/>
                </a:moveTo>
                <a:cubicBezTo>
                  <a:pt x="11425" y="9569"/>
                  <a:pt x="11423" y="9775"/>
                  <a:pt x="11361" y="9971"/>
                </a:cubicBezTo>
                <a:cubicBezTo>
                  <a:pt x="11332" y="10062"/>
                  <a:pt x="11291" y="10143"/>
                  <a:pt x="11237" y="10220"/>
                </a:cubicBezTo>
              </a:path>
              <a:path w="6103" h="4838">
                <a:moveTo>
                  <a:pt x="12105" y="9327"/>
                </a:moveTo>
                <a:cubicBezTo>
                  <a:pt x="12120" y="9279"/>
                  <a:pt x="12223" y="9265"/>
                  <a:pt x="12278" y="9252"/>
                </a:cubicBezTo>
                <a:cubicBezTo>
                  <a:pt x="12365" y="9232"/>
                  <a:pt x="12515" y="9198"/>
                  <a:pt x="12576" y="9227"/>
                </a:cubicBezTo>
                <a:cubicBezTo>
                  <a:pt x="12515" y="9340"/>
                  <a:pt x="12454" y="9502"/>
                  <a:pt x="12378" y="9599"/>
                </a:cubicBezTo>
                <a:cubicBezTo>
                  <a:pt x="12343" y="9599"/>
                  <a:pt x="12339" y="9608"/>
                  <a:pt x="12378" y="9649"/>
                </a:cubicBezTo>
              </a:path>
              <a:path w="6103" h="4838">
                <a:moveTo>
                  <a:pt x="12005" y="9872"/>
                </a:moveTo>
                <a:cubicBezTo>
                  <a:pt x="12215" y="9861"/>
                  <a:pt x="12418" y="9820"/>
                  <a:pt x="12626" y="9798"/>
                </a:cubicBezTo>
                <a:cubicBezTo>
                  <a:pt x="12651" y="9798"/>
                  <a:pt x="12675" y="9798"/>
                  <a:pt x="12700" y="9798"/>
                </a:cubicBezTo>
              </a:path>
              <a:path w="6103" h="4838">
                <a:moveTo>
                  <a:pt x="12402" y="10071"/>
                </a:moveTo>
                <a:cubicBezTo>
                  <a:pt x="12355" y="9975"/>
                  <a:pt x="12230" y="10050"/>
                  <a:pt x="12154" y="10096"/>
                </a:cubicBezTo>
                <a:cubicBezTo>
                  <a:pt x="11951" y="10220"/>
                  <a:pt x="12087" y="10274"/>
                  <a:pt x="12229" y="10319"/>
                </a:cubicBezTo>
                <a:cubicBezTo>
                  <a:pt x="12254" y="10327"/>
                  <a:pt x="12278" y="10336"/>
                  <a:pt x="12303" y="10344"/>
                </a:cubicBezTo>
                <a:cubicBezTo>
                  <a:pt x="12267" y="10394"/>
                  <a:pt x="12151" y="10478"/>
                  <a:pt x="12080" y="10418"/>
                </a:cubicBezTo>
                <a:cubicBezTo>
                  <a:pt x="11984" y="10337"/>
                  <a:pt x="12357" y="10144"/>
                  <a:pt x="12378" y="10120"/>
                </a:cubicBezTo>
                <a:cubicBezTo>
                  <a:pt x="12399" y="10055"/>
                  <a:pt x="12417" y="10030"/>
                  <a:pt x="12353" y="10046"/>
                </a:cubicBezTo>
              </a:path>
              <a:path w="6103" h="4838">
                <a:moveTo>
                  <a:pt x="10468" y="10765"/>
                </a:moveTo>
                <a:cubicBezTo>
                  <a:pt x="10691" y="10791"/>
                  <a:pt x="10884" y="10792"/>
                  <a:pt x="11112" y="10765"/>
                </a:cubicBezTo>
                <a:cubicBezTo>
                  <a:pt x="11559" y="10712"/>
                  <a:pt x="12009" y="10638"/>
                  <a:pt x="12452" y="10567"/>
                </a:cubicBezTo>
                <a:cubicBezTo>
                  <a:pt x="12621" y="10540"/>
                  <a:pt x="12778" y="10503"/>
                  <a:pt x="12948" y="10492"/>
                </a:cubicBezTo>
              </a:path>
              <a:path w="6103" h="4838">
                <a:moveTo>
                  <a:pt x="13196" y="8409"/>
                </a:moveTo>
                <a:lnTo>
                  <a:pt x="13196" y="8409"/>
                </a:lnTo>
              </a:path>
              <a:path w="6103" h="4838">
                <a:moveTo>
                  <a:pt x="13171" y="8384"/>
                </a:moveTo>
                <a:cubicBezTo>
                  <a:pt x="13171" y="8333"/>
                  <a:pt x="13160" y="8326"/>
                  <a:pt x="13146" y="8285"/>
                </a:cubicBezTo>
                <a:cubicBezTo>
                  <a:pt x="13127" y="8229"/>
                  <a:pt x="13059" y="8223"/>
                  <a:pt x="12998" y="8235"/>
                </a:cubicBezTo>
                <a:cubicBezTo>
                  <a:pt x="12891" y="8257"/>
                  <a:pt x="12828" y="8348"/>
                  <a:pt x="12774" y="8434"/>
                </a:cubicBezTo>
                <a:cubicBezTo>
                  <a:pt x="12890" y="8479"/>
                  <a:pt x="13033" y="8465"/>
                  <a:pt x="13097" y="8582"/>
                </a:cubicBezTo>
                <a:cubicBezTo>
                  <a:pt x="13138" y="8657"/>
                  <a:pt x="13011" y="8696"/>
                  <a:pt x="12973" y="8706"/>
                </a:cubicBezTo>
                <a:cubicBezTo>
                  <a:pt x="12958" y="8583"/>
                  <a:pt x="12987" y="8504"/>
                  <a:pt x="12998" y="8384"/>
                </a:cubicBezTo>
                <a:cubicBezTo>
                  <a:pt x="12998" y="8376"/>
                  <a:pt x="12998" y="8367"/>
                  <a:pt x="12998" y="8359"/>
                </a:cubicBezTo>
              </a:path>
              <a:path w="6103" h="4838">
                <a:moveTo>
                  <a:pt x="12849" y="8012"/>
                </a:moveTo>
                <a:cubicBezTo>
                  <a:pt x="12869" y="7934"/>
                  <a:pt x="12997" y="7921"/>
                  <a:pt x="13072" y="7913"/>
                </a:cubicBezTo>
                <a:cubicBezTo>
                  <a:pt x="13173" y="7902"/>
                  <a:pt x="13165" y="7908"/>
                  <a:pt x="13221" y="7962"/>
                </a:cubicBezTo>
              </a:path>
              <a:path w="6103" h="4838">
                <a:moveTo>
                  <a:pt x="11906" y="8458"/>
                </a:moveTo>
                <a:cubicBezTo>
                  <a:pt x="11879" y="8423"/>
                  <a:pt x="11881" y="8428"/>
                  <a:pt x="11881" y="8384"/>
                </a:cubicBezTo>
                <a:cubicBezTo>
                  <a:pt x="11977" y="8432"/>
                  <a:pt x="12104" y="8614"/>
                  <a:pt x="12179" y="8706"/>
                </a:cubicBezTo>
                <a:cubicBezTo>
                  <a:pt x="12180" y="8707"/>
                  <a:pt x="12300" y="8848"/>
                  <a:pt x="12303" y="8855"/>
                </a:cubicBezTo>
                <a:cubicBezTo>
                  <a:pt x="12303" y="8863"/>
                  <a:pt x="12303" y="8872"/>
                  <a:pt x="12303" y="8880"/>
                </a:cubicBezTo>
              </a:path>
              <a:path w="6103" h="4838">
                <a:moveTo>
                  <a:pt x="12179" y="7466"/>
                </a:moveTo>
                <a:cubicBezTo>
                  <a:pt x="12179" y="7438"/>
                  <a:pt x="12177" y="7427"/>
                  <a:pt x="12154" y="7417"/>
                </a:cubicBezTo>
                <a:cubicBezTo>
                  <a:pt x="12186" y="7529"/>
                  <a:pt x="12267" y="7627"/>
                  <a:pt x="12303" y="7739"/>
                </a:cubicBezTo>
                <a:cubicBezTo>
                  <a:pt x="12330" y="7823"/>
                  <a:pt x="12369" y="7950"/>
                  <a:pt x="12378" y="8037"/>
                </a:cubicBezTo>
                <a:cubicBezTo>
                  <a:pt x="12381" y="8069"/>
                  <a:pt x="12395" y="8081"/>
                  <a:pt x="12402" y="8111"/>
                </a:cubicBezTo>
              </a:path>
              <a:path w="6103" h="4838">
                <a:moveTo>
                  <a:pt x="12675" y="7491"/>
                </a:moveTo>
                <a:cubicBezTo>
                  <a:pt x="12675" y="7564"/>
                  <a:pt x="12669" y="7673"/>
                  <a:pt x="12650" y="7739"/>
                </a:cubicBezTo>
                <a:cubicBezTo>
                  <a:pt x="12642" y="7747"/>
                  <a:pt x="12634" y="7756"/>
                  <a:pt x="12626" y="7764"/>
                </a:cubicBezTo>
                <a:cubicBezTo>
                  <a:pt x="12691" y="7742"/>
                  <a:pt x="12741" y="7688"/>
                  <a:pt x="12799" y="7665"/>
                </a:cubicBezTo>
              </a:path>
              <a:path w="6103" h="4838">
                <a:moveTo>
                  <a:pt x="12799" y="7392"/>
                </a:moveTo>
                <a:cubicBezTo>
                  <a:pt x="12791" y="7384"/>
                  <a:pt x="12782" y="7375"/>
                  <a:pt x="12774" y="7367"/>
                </a:cubicBezTo>
                <a:cubicBezTo>
                  <a:pt x="12774" y="7512"/>
                  <a:pt x="12787" y="7647"/>
                  <a:pt x="12799" y="7789"/>
                </a:cubicBezTo>
                <a:cubicBezTo>
                  <a:pt x="12799" y="7847"/>
                  <a:pt x="12799" y="7855"/>
                  <a:pt x="12799" y="7888"/>
                </a:cubicBezTo>
              </a:path>
              <a:path w="6103" h="4838">
                <a:moveTo>
                  <a:pt x="12378" y="10716"/>
                </a:moveTo>
                <a:cubicBezTo>
                  <a:pt x="12378" y="10688"/>
                  <a:pt x="12376" y="10677"/>
                  <a:pt x="12353" y="10666"/>
                </a:cubicBezTo>
                <a:cubicBezTo>
                  <a:pt x="12353" y="10777"/>
                  <a:pt x="12329" y="10881"/>
                  <a:pt x="12303" y="10988"/>
                </a:cubicBezTo>
                <a:cubicBezTo>
                  <a:pt x="12284" y="11067"/>
                  <a:pt x="12250" y="11095"/>
                  <a:pt x="12303" y="11112"/>
                </a:cubicBezTo>
              </a:path>
              <a:path w="6103" h="4838">
                <a:moveTo>
                  <a:pt x="12626" y="10666"/>
                </a:moveTo>
                <a:cubicBezTo>
                  <a:pt x="12626" y="10780"/>
                  <a:pt x="12567" y="10873"/>
                  <a:pt x="12551" y="10988"/>
                </a:cubicBezTo>
                <a:cubicBezTo>
                  <a:pt x="12543" y="11042"/>
                  <a:pt x="12551" y="11107"/>
                  <a:pt x="12551" y="11162"/>
                </a:cubicBezTo>
              </a:path>
              <a:path w="6103" h="4838">
                <a:moveTo>
                  <a:pt x="12129" y="11311"/>
                </a:moveTo>
                <a:cubicBezTo>
                  <a:pt x="12289" y="11311"/>
                  <a:pt x="12444" y="11319"/>
                  <a:pt x="12601" y="11286"/>
                </a:cubicBezTo>
                <a:cubicBezTo>
                  <a:pt x="12670" y="11271"/>
                  <a:pt x="12683" y="11234"/>
                  <a:pt x="12700" y="11286"/>
                </a:cubicBezTo>
              </a:path>
              <a:path w="6103" h="4838">
                <a:moveTo>
                  <a:pt x="12601" y="11509"/>
                </a:moveTo>
                <a:cubicBezTo>
                  <a:pt x="12560" y="11450"/>
                  <a:pt x="12459" y="11515"/>
                  <a:pt x="12402" y="11559"/>
                </a:cubicBezTo>
                <a:cubicBezTo>
                  <a:pt x="12358" y="11593"/>
                  <a:pt x="12321" y="11638"/>
                  <a:pt x="12303" y="11683"/>
                </a:cubicBezTo>
                <a:cubicBezTo>
                  <a:pt x="12401" y="11740"/>
                  <a:pt x="12467" y="11760"/>
                  <a:pt x="12526" y="11857"/>
                </a:cubicBezTo>
                <a:cubicBezTo>
                  <a:pt x="12526" y="11921"/>
                  <a:pt x="12505" y="11915"/>
                  <a:pt x="12427" y="11931"/>
                </a:cubicBezTo>
                <a:cubicBezTo>
                  <a:pt x="12380" y="11940"/>
                  <a:pt x="12372" y="11814"/>
                  <a:pt x="12378" y="11782"/>
                </a:cubicBezTo>
                <a:cubicBezTo>
                  <a:pt x="12396" y="11685"/>
                  <a:pt x="12534" y="11614"/>
                  <a:pt x="12601" y="11559"/>
                </a:cubicBezTo>
                <a:cubicBezTo>
                  <a:pt x="12648" y="11521"/>
                  <a:pt x="12625" y="11503"/>
                  <a:pt x="12601" y="11485"/>
                </a:cubicBezTo>
                <a:cubicBezTo>
                  <a:pt x="12593" y="11477"/>
                  <a:pt x="12584" y="11468"/>
                  <a:pt x="12576" y="11460"/>
                </a:cubicBezTo>
              </a:path>
              <a:path w="6103" h="4838">
                <a:moveTo>
                  <a:pt x="10964" y="11013"/>
                </a:moveTo>
                <a:cubicBezTo>
                  <a:pt x="10964" y="11173"/>
                  <a:pt x="10948" y="11326"/>
                  <a:pt x="10939" y="11485"/>
                </a:cubicBezTo>
                <a:cubicBezTo>
                  <a:pt x="10938" y="11505"/>
                  <a:pt x="10914" y="11871"/>
                  <a:pt x="10914" y="11658"/>
                </a:cubicBezTo>
              </a:path>
              <a:path w="6103" h="4838">
                <a:moveTo>
                  <a:pt x="11311" y="11088"/>
                </a:moveTo>
                <a:cubicBezTo>
                  <a:pt x="11338" y="11106"/>
                  <a:pt x="11338" y="11123"/>
                  <a:pt x="11361" y="11162"/>
                </a:cubicBezTo>
                <a:cubicBezTo>
                  <a:pt x="11361" y="11051"/>
                  <a:pt x="11331" y="11027"/>
                  <a:pt x="11435" y="10988"/>
                </a:cubicBezTo>
                <a:cubicBezTo>
                  <a:pt x="11504" y="10962"/>
                  <a:pt x="11562" y="10964"/>
                  <a:pt x="11633" y="10964"/>
                </a:cubicBezTo>
                <a:cubicBezTo>
                  <a:pt x="11641" y="10964"/>
                  <a:pt x="11650" y="10964"/>
                  <a:pt x="11658" y="10964"/>
                </a:cubicBezTo>
                <a:cubicBezTo>
                  <a:pt x="11629" y="11135"/>
                  <a:pt x="11597" y="11314"/>
                  <a:pt x="11559" y="11485"/>
                </a:cubicBezTo>
                <a:cubicBezTo>
                  <a:pt x="11545" y="11547"/>
                  <a:pt x="11473" y="11795"/>
                  <a:pt x="11509" y="11832"/>
                </a:cubicBezTo>
              </a:path>
              <a:path w="6103" h="4838">
                <a:moveTo>
                  <a:pt x="15503" y="8235"/>
                </a:moveTo>
                <a:cubicBezTo>
                  <a:pt x="15528" y="8210"/>
                  <a:pt x="15536" y="8202"/>
                  <a:pt x="15553" y="8186"/>
                </a:cubicBezTo>
                <a:cubicBezTo>
                  <a:pt x="15535" y="8292"/>
                  <a:pt x="15490" y="8406"/>
                  <a:pt x="15453" y="8508"/>
                </a:cubicBezTo>
                <a:cubicBezTo>
                  <a:pt x="15434" y="8549"/>
                  <a:pt x="15415" y="8565"/>
                  <a:pt x="15453" y="8558"/>
                </a:cubicBezTo>
              </a:path>
              <a:path w="6103" h="4838">
                <a:moveTo>
                  <a:pt x="15850" y="8136"/>
                </a:moveTo>
                <a:cubicBezTo>
                  <a:pt x="15890" y="8268"/>
                  <a:pt x="15847" y="8351"/>
                  <a:pt x="15825" y="8483"/>
                </a:cubicBezTo>
                <a:cubicBezTo>
                  <a:pt x="15825" y="8500"/>
                  <a:pt x="15825" y="8516"/>
                  <a:pt x="15825" y="8533"/>
                </a:cubicBezTo>
              </a:path>
              <a:path w="6103" h="4838">
                <a:moveTo>
                  <a:pt x="15156" y="8756"/>
                </a:moveTo>
                <a:cubicBezTo>
                  <a:pt x="15128" y="8636"/>
                  <a:pt x="15091" y="8509"/>
                  <a:pt x="15081" y="8384"/>
                </a:cubicBezTo>
                <a:cubicBezTo>
                  <a:pt x="15077" y="8339"/>
                  <a:pt x="15048" y="8121"/>
                  <a:pt x="15106" y="8086"/>
                </a:cubicBezTo>
                <a:cubicBezTo>
                  <a:pt x="15200" y="8029"/>
                  <a:pt x="15396" y="7973"/>
                  <a:pt x="15503" y="7962"/>
                </a:cubicBezTo>
                <a:cubicBezTo>
                  <a:pt x="15675" y="7944"/>
                  <a:pt x="15850" y="7938"/>
                  <a:pt x="16024" y="7938"/>
                </a:cubicBezTo>
                <a:cubicBezTo>
                  <a:pt x="16082" y="7938"/>
                  <a:pt x="16090" y="7938"/>
                  <a:pt x="16123" y="7938"/>
                </a:cubicBezTo>
              </a:path>
              <a:path w="6103" h="4838">
                <a:moveTo>
                  <a:pt x="14709" y="8285"/>
                </a:moveTo>
                <a:cubicBezTo>
                  <a:pt x="14656" y="8245"/>
                  <a:pt x="14662" y="8263"/>
                  <a:pt x="14610" y="8285"/>
                </a:cubicBezTo>
                <a:cubicBezTo>
                  <a:pt x="14530" y="8319"/>
                  <a:pt x="14446" y="8349"/>
                  <a:pt x="14436" y="8434"/>
                </a:cubicBezTo>
                <a:cubicBezTo>
                  <a:pt x="14423" y="8544"/>
                  <a:pt x="14599" y="8606"/>
                  <a:pt x="14660" y="8682"/>
                </a:cubicBezTo>
                <a:cubicBezTo>
                  <a:pt x="14668" y="8698"/>
                  <a:pt x="14676" y="8715"/>
                  <a:pt x="14684" y="8731"/>
                </a:cubicBezTo>
                <a:cubicBezTo>
                  <a:pt x="14648" y="8786"/>
                  <a:pt x="14555" y="8833"/>
                  <a:pt x="14511" y="8731"/>
                </a:cubicBezTo>
                <a:cubicBezTo>
                  <a:pt x="14466" y="8627"/>
                  <a:pt x="14573" y="8470"/>
                  <a:pt x="14610" y="8384"/>
                </a:cubicBezTo>
                <a:cubicBezTo>
                  <a:pt x="14630" y="8324"/>
                  <a:pt x="14629" y="8309"/>
                  <a:pt x="14660" y="8285"/>
                </a:cubicBezTo>
              </a:path>
              <a:path w="6103" h="4838">
                <a:moveTo>
                  <a:pt x="15925" y="8706"/>
                </a:moveTo>
                <a:cubicBezTo>
                  <a:pt x="15911" y="8651"/>
                  <a:pt x="15889" y="8655"/>
                  <a:pt x="15825" y="8706"/>
                </a:cubicBezTo>
                <a:cubicBezTo>
                  <a:pt x="15763" y="8769"/>
                  <a:pt x="15746" y="8779"/>
                  <a:pt x="15726" y="8830"/>
                </a:cubicBezTo>
                <a:cubicBezTo>
                  <a:pt x="15802" y="8920"/>
                  <a:pt x="15904" y="8915"/>
                  <a:pt x="15999" y="8979"/>
                </a:cubicBezTo>
                <a:cubicBezTo>
                  <a:pt x="15999" y="9004"/>
                  <a:pt x="15999" y="9012"/>
                  <a:pt x="15999" y="9029"/>
                </a:cubicBezTo>
                <a:cubicBezTo>
                  <a:pt x="15899" y="9072"/>
                  <a:pt x="15862" y="9006"/>
                  <a:pt x="15949" y="8905"/>
                </a:cubicBezTo>
                <a:cubicBezTo>
                  <a:pt x="16014" y="8830"/>
                  <a:pt x="16065" y="8788"/>
                  <a:pt x="16123" y="8706"/>
                </a:cubicBezTo>
              </a:path>
              <a:path w="6103" h="4838">
                <a:moveTo>
                  <a:pt x="15354" y="9376"/>
                </a:moveTo>
                <a:cubicBezTo>
                  <a:pt x="15617" y="9309"/>
                  <a:pt x="15883" y="9259"/>
                  <a:pt x="16148" y="9203"/>
                </a:cubicBezTo>
                <a:cubicBezTo>
                  <a:pt x="16222" y="9184"/>
                  <a:pt x="16229" y="9176"/>
                  <a:pt x="16272" y="9178"/>
                </a:cubicBezTo>
              </a:path>
              <a:path w="6103" h="4838">
                <a:moveTo>
                  <a:pt x="15255" y="9103"/>
                </a:moveTo>
                <a:cubicBezTo>
                  <a:pt x="15309" y="9093"/>
                  <a:pt x="15360" y="9080"/>
                  <a:pt x="15404" y="9054"/>
                </a:cubicBezTo>
              </a:path>
              <a:path w="6103" h="4838">
                <a:moveTo>
                  <a:pt x="15974" y="9351"/>
                </a:moveTo>
                <a:cubicBezTo>
                  <a:pt x="15993" y="9408"/>
                  <a:pt x="16063" y="9357"/>
                  <a:pt x="16123" y="9351"/>
                </a:cubicBezTo>
                <a:cubicBezTo>
                  <a:pt x="16148" y="9351"/>
                  <a:pt x="16172" y="9351"/>
                  <a:pt x="16197" y="9351"/>
                </a:cubicBezTo>
                <a:cubicBezTo>
                  <a:pt x="16181" y="9529"/>
                  <a:pt x="16150" y="9580"/>
                  <a:pt x="16024" y="9699"/>
                </a:cubicBezTo>
                <a:cubicBezTo>
                  <a:pt x="16016" y="9707"/>
                  <a:pt x="16007" y="9715"/>
                  <a:pt x="15999" y="9723"/>
                </a:cubicBezTo>
                <a:cubicBezTo>
                  <a:pt x="16054" y="9660"/>
                  <a:pt x="16157" y="9601"/>
                  <a:pt x="16247" y="9674"/>
                </a:cubicBezTo>
                <a:cubicBezTo>
                  <a:pt x="16382" y="9784"/>
                  <a:pt x="16197" y="9913"/>
                  <a:pt x="16098" y="9947"/>
                </a:cubicBezTo>
                <a:cubicBezTo>
                  <a:pt x="16009" y="9978"/>
                  <a:pt x="15966" y="9985"/>
                  <a:pt x="15900" y="9947"/>
                </a:cubicBezTo>
              </a:path>
              <a:path w="6103" h="4838">
                <a:moveTo>
                  <a:pt x="12725" y="10542"/>
                </a:moveTo>
                <a:cubicBezTo>
                  <a:pt x="12651" y="10517"/>
                  <a:pt x="12558" y="10501"/>
                  <a:pt x="12477" y="10517"/>
                </a:cubicBezTo>
                <a:cubicBezTo>
                  <a:pt x="12381" y="10536"/>
                  <a:pt x="12255" y="10602"/>
                  <a:pt x="12179" y="10666"/>
                </a:cubicBezTo>
                <a:cubicBezTo>
                  <a:pt x="12056" y="10770"/>
                  <a:pt x="12037" y="10894"/>
                  <a:pt x="11981" y="11038"/>
                </a:cubicBezTo>
                <a:cubicBezTo>
                  <a:pt x="11919" y="11199"/>
                  <a:pt x="11931" y="11336"/>
                  <a:pt x="11931" y="11509"/>
                </a:cubicBezTo>
                <a:cubicBezTo>
                  <a:pt x="11931" y="11634"/>
                  <a:pt x="11898" y="11814"/>
                  <a:pt x="11956" y="11931"/>
                </a:cubicBezTo>
                <a:cubicBezTo>
                  <a:pt x="11998" y="12015"/>
                  <a:pt x="12085" y="12171"/>
                  <a:pt x="12179" y="12204"/>
                </a:cubicBezTo>
                <a:cubicBezTo>
                  <a:pt x="12350" y="12263"/>
                  <a:pt x="12609" y="12017"/>
                  <a:pt x="12725" y="11931"/>
                </a:cubicBezTo>
                <a:cubicBezTo>
                  <a:pt x="12885" y="11811"/>
                  <a:pt x="13037" y="11641"/>
                  <a:pt x="13072" y="11435"/>
                </a:cubicBezTo>
                <a:cubicBezTo>
                  <a:pt x="13104" y="11248"/>
                  <a:pt x="13027" y="11113"/>
                  <a:pt x="12874" y="11013"/>
                </a:cubicBezTo>
                <a:cubicBezTo>
                  <a:pt x="12777" y="10949"/>
                  <a:pt x="12661" y="10937"/>
                  <a:pt x="12551" y="10914"/>
                </a:cubicBezTo>
              </a:path>
              <a:path w="6103" h="4838">
                <a:moveTo>
                  <a:pt x="12650" y="10840"/>
                </a:moveTo>
                <a:cubicBezTo>
                  <a:pt x="12728" y="10720"/>
                  <a:pt x="12780" y="10596"/>
                  <a:pt x="12849" y="10468"/>
                </a:cubicBezTo>
                <a:cubicBezTo>
                  <a:pt x="12955" y="10269"/>
                  <a:pt x="13067" y="10081"/>
                  <a:pt x="13196" y="9897"/>
                </a:cubicBezTo>
                <a:cubicBezTo>
                  <a:pt x="13332" y="9703"/>
                  <a:pt x="13526" y="9585"/>
                  <a:pt x="13717" y="9451"/>
                </a:cubicBezTo>
                <a:cubicBezTo>
                  <a:pt x="13776" y="9411"/>
                  <a:pt x="13788" y="9407"/>
                  <a:pt x="13816" y="9376"/>
                </a:cubicBezTo>
              </a:path>
              <a:path w="6103" h="4838">
                <a:moveTo>
                  <a:pt x="14064" y="10046"/>
                </a:moveTo>
                <a:cubicBezTo>
                  <a:pt x="14064" y="10190"/>
                  <a:pt x="14054" y="10350"/>
                  <a:pt x="14039" y="10492"/>
                </a:cubicBezTo>
                <a:cubicBezTo>
                  <a:pt x="14031" y="10567"/>
                  <a:pt x="14015" y="10691"/>
                  <a:pt x="14015" y="10616"/>
                </a:cubicBezTo>
              </a:path>
              <a:path w="6103" h="4838">
                <a:moveTo>
                  <a:pt x="14412" y="9823"/>
                </a:moveTo>
                <a:cubicBezTo>
                  <a:pt x="14485" y="9790"/>
                  <a:pt x="14531" y="9780"/>
                  <a:pt x="14610" y="9773"/>
                </a:cubicBezTo>
                <a:cubicBezTo>
                  <a:pt x="14592" y="9879"/>
                  <a:pt x="14536" y="9922"/>
                  <a:pt x="14461" y="9996"/>
                </a:cubicBezTo>
                <a:cubicBezTo>
                  <a:pt x="14483" y="10040"/>
                  <a:pt x="14499" y="9932"/>
                  <a:pt x="14585" y="9971"/>
                </a:cubicBezTo>
                <a:cubicBezTo>
                  <a:pt x="14704" y="10025"/>
                  <a:pt x="14608" y="10207"/>
                  <a:pt x="14511" y="10220"/>
                </a:cubicBezTo>
                <a:cubicBezTo>
                  <a:pt x="14478" y="10212"/>
                  <a:pt x="14445" y="10203"/>
                  <a:pt x="14412" y="10195"/>
                </a:cubicBezTo>
              </a:path>
              <a:path w="6103" h="4838">
                <a:moveTo>
                  <a:pt x="14362" y="10368"/>
                </a:moveTo>
                <a:cubicBezTo>
                  <a:pt x="14489" y="10339"/>
                  <a:pt x="14609" y="10307"/>
                  <a:pt x="14734" y="10269"/>
                </a:cubicBezTo>
              </a:path>
              <a:path w="6103" h="4838">
                <a:moveTo>
                  <a:pt x="14734" y="10393"/>
                </a:moveTo>
                <a:cubicBezTo>
                  <a:pt x="14637" y="10409"/>
                  <a:pt x="14570" y="10461"/>
                  <a:pt x="14511" y="10542"/>
                </a:cubicBezTo>
                <a:cubicBezTo>
                  <a:pt x="14429" y="10654"/>
                  <a:pt x="14641" y="10634"/>
                  <a:pt x="14709" y="10666"/>
                </a:cubicBezTo>
                <a:cubicBezTo>
                  <a:pt x="14717" y="10674"/>
                  <a:pt x="14726" y="10683"/>
                  <a:pt x="14734" y="10691"/>
                </a:cubicBezTo>
                <a:cubicBezTo>
                  <a:pt x="14683" y="10699"/>
                  <a:pt x="14636" y="10710"/>
                  <a:pt x="14585" y="10716"/>
                </a:cubicBezTo>
                <a:cubicBezTo>
                  <a:pt x="14635" y="10626"/>
                  <a:pt x="14747" y="10547"/>
                  <a:pt x="14734" y="10443"/>
                </a:cubicBezTo>
                <a:cubicBezTo>
                  <a:pt x="14726" y="10435"/>
                  <a:pt x="14717" y="10426"/>
                  <a:pt x="14709" y="10418"/>
                </a:cubicBezTo>
              </a:path>
              <a:path w="6103" h="4838">
                <a:moveTo>
                  <a:pt x="14089" y="10592"/>
                </a:moveTo>
                <a:cubicBezTo>
                  <a:pt x="14089" y="10600"/>
                  <a:pt x="14089" y="10608"/>
                  <a:pt x="14089" y="10616"/>
                </a:cubicBezTo>
              </a:path>
              <a:path w="6103" h="4838">
                <a:moveTo>
                  <a:pt x="11485" y="11857"/>
                </a:moveTo>
                <a:cubicBezTo>
                  <a:pt x="11524" y="11857"/>
                  <a:pt x="11497" y="11844"/>
                  <a:pt x="11534" y="1183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9240" y="4660920"/>
            <a:ext cx="1420920" cy="500040"/>
          </a:xfrm>
          <a:custGeom>
            <a:avLst/>
            <a:gdLst/>
            <a:ahLst/>
            <a:rect l="l" t="t" r="r" b="b"/>
            <a:pathLst>
              <a:path w="3944" h="1390">
                <a:moveTo>
                  <a:pt x="11782" y="13419"/>
                </a:moveTo>
                <a:cubicBezTo>
                  <a:pt x="11737" y="13493"/>
                  <a:pt x="11757" y="13467"/>
                  <a:pt x="11757" y="13419"/>
                </a:cubicBezTo>
                <a:cubicBezTo>
                  <a:pt x="11980" y="13346"/>
                  <a:pt x="12022" y="13509"/>
                  <a:pt x="11981" y="13742"/>
                </a:cubicBezTo>
                <a:cubicBezTo>
                  <a:pt x="11949" y="13925"/>
                  <a:pt x="11680" y="14319"/>
                  <a:pt x="11435" y="14213"/>
                </a:cubicBezTo>
                <a:cubicBezTo>
                  <a:pt x="11410" y="14180"/>
                  <a:pt x="11386" y="14147"/>
                  <a:pt x="11361" y="14114"/>
                </a:cubicBezTo>
                <a:cubicBezTo>
                  <a:pt x="11481" y="13927"/>
                  <a:pt x="11619" y="13864"/>
                  <a:pt x="11857" y="13965"/>
                </a:cubicBezTo>
                <a:cubicBezTo>
                  <a:pt x="11932" y="13997"/>
                  <a:pt x="12011" y="14088"/>
                  <a:pt x="12030" y="14163"/>
                </a:cubicBezTo>
              </a:path>
              <a:path w="3944" h="1390">
                <a:moveTo>
                  <a:pt x="12526" y="13395"/>
                </a:moveTo>
                <a:cubicBezTo>
                  <a:pt x="12539" y="13596"/>
                  <a:pt x="12542" y="13765"/>
                  <a:pt x="12502" y="13965"/>
                </a:cubicBezTo>
                <a:cubicBezTo>
                  <a:pt x="12494" y="13998"/>
                  <a:pt x="12485" y="14031"/>
                  <a:pt x="12477" y="14064"/>
                </a:cubicBezTo>
              </a:path>
              <a:path w="3944" h="1390">
                <a:moveTo>
                  <a:pt x="13171" y="12998"/>
                </a:moveTo>
                <a:cubicBezTo>
                  <a:pt x="13228" y="12960"/>
                  <a:pt x="13372" y="12892"/>
                  <a:pt x="13419" y="12998"/>
                </a:cubicBezTo>
                <a:cubicBezTo>
                  <a:pt x="13447" y="13060"/>
                  <a:pt x="13218" y="13165"/>
                  <a:pt x="13271" y="13122"/>
                </a:cubicBezTo>
                <a:cubicBezTo>
                  <a:pt x="13287" y="13114"/>
                  <a:pt x="13304" y="13105"/>
                  <a:pt x="13320" y="13097"/>
                </a:cubicBezTo>
                <a:cubicBezTo>
                  <a:pt x="13421" y="13097"/>
                  <a:pt x="13456" y="13098"/>
                  <a:pt x="13494" y="13171"/>
                </a:cubicBezTo>
                <a:cubicBezTo>
                  <a:pt x="13417" y="13326"/>
                  <a:pt x="13366" y="13334"/>
                  <a:pt x="13196" y="13345"/>
                </a:cubicBezTo>
              </a:path>
              <a:path w="3944" h="1390">
                <a:moveTo>
                  <a:pt x="13171" y="13543"/>
                </a:moveTo>
                <a:cubicBezTo>
                  <a:pt x="13313" y="13537"/>
                  <a:pt x="13451" y="13526"/>
                  <a:pt x="13593" y="13519"/>
                </a:cubicBezTo>
              </a:path>
              <a:path w="3944" h="1390">
                <a:moveTo>
                  <a:pt x="13271" y="13816"/>
                </a:moveTo>
                <a:cubicBezTo>
                  <a:pt x="13255" y="13860"/>
                  <a:pt x="13210" y="13977"/>
                  <a:pt x="13271" y="14015"/>
                </a:cubicBezTo>
                <a:cubicBezTo>
                  <a:pt x="13335" y="14055"/>
                  <a:pt x="13421" y="13989"/>
                  <a:pt x="13469" y="13965"/>
                </a:cubicBezTo>
              </a:path>
              <a:path w="3944" h="1390">
                <a:moveTo>
                  <a:pt x="13494" y="13915"/>
                </a:moveTo>
                <a:cubicBezTo>
                  <a:pt x="13473" y="14057"/>
                  <a:pt x="13452" y="14194"/>
                  <a:pt x="13444" y="14337"/>
                </a:cubicBezTo>
              </a:path>
              <a:path w="3944" h="1390">
                <a:moveTo>
                  <a:pt x="14709" y="13717"/>
                </a:moveTo>
                <a:cubicBezTo>
                  <a:pt x="14666" y="13674"/>
                  <a:pt x="14768" y="13717"/>
                  <a:pt x="14833" y="13717"/>
                </a:cubicBezTo>
                <a:cubicBezTo>
                  <a:pt x="14994" y="13717"/>
                  <a:pt x="14996" y="13875"/>
                  <a:pt x="14932" y="13990"/>
                </a:cubicBezTo>
                <a:cubicBezTo>
                  <a:pt x="14846" y="14144"/>
                  <a:pt x="14752" y="14131"/>
                  <a:pt x="14635" y="14039"/>
                </a:cubicBezTo>
                <a:cubicBezTo>
                  <a:pt x="14714" y="14039"/>
                  <a:pt x="14783" y="14068"/>
                  <a:pt x="14858" y="14089"/>
                </a:cubicBezTo>
                <a:cubicBezTo>
                  <a:pt x="14950" y="14112"/>
                  <a:pt x="14975" y="14123"/>
                  <a:pt x="15032" y="14089"/>
                </a:cubicBezTo>
              </a:path>
              <a:path w="3944" h="1390">
                <a:moveTo>
                  <a:pt x="15156" y="13816"/>
                </a:moveTo>
                <a:cubicBezTo>
                  <a:pt x="15081" y="13955"/>
                  <a:pt x="15055" y="14004"/>
                  <a:pt x="15180" y="14114"/>
                </a:cubicBezTo>
                <a:cubicBezTo>
                  <a:pt x="15329" y="14033"/>
                  <a:pt x="15328" y="13997"/>
                  <a:pt x="15230" y="13866"/>
                </a:cubicBezTo>
              </a:path>
              <a:path w="3944" h="1390">
                <a:moveTo>
                  <a:pt x="14709" y="13419"/>
                </a:moveTo>
                <a:cubicBezTo>
                  <a:pt x="14879" y="13486"/>
                  <a:pt x="15050" y="13506"/>
                  <a:pt x="15230" y="1354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6120" y="5411880"/>
            <a:ext cx="588960" cy="384120"/>
          </a:xfrm>
          <a:custGeom>
            <a:avLst/>
            <a:gdLst/>
            <a:ahLst/>
            <a:rect l="l" t="t" r="r" b="b"/>
            <a:pathLst>
              <a:path w="1638" h="1067">
                <a:moveTo>
                  <a:pt x="14709" y="15726"/>
                </a:moveTo>
                <a:cubicBezTo>
                  <a:pt x="14933" y="15726"/>
                  <a:pt x="15164" y="15713"/>
                  <a:pt x="15379" y="15751"/>
                </a:cubicBezTo>
                <a:cubicBezTo>
                  <a:pt x="15387" y="15751"/>
                  <a:pt x="15396" y="15751"/>
                  <a:pt x="15404" y="15751"/>
                </a:cubicBezTo>
              </a:path>
              <a:path w="1638" h="1067">
                <a:moveTo>
                  <a:pt x="13767" y="15677"/>
                </a:moveTo>
                <a:cubicBezTo>
                  <a:pt x="13778" y="15744"/>
                  <a:pt x="13786" y="15798"/>
                  <a:pt x="13841" y="15825"/>
                </a:cubicBezTo>
              </a:path>
              <a:path w="1638" h="1067">
                <a:moveTo>
                  <a:pt x="13940" y="15627"/>
                </a:moveTo>
                <a:cubicBezTo>
                  <a:pt x="13869" y="15726"/>
                  <a:pt x="13822" y="15837"/>
                  <a:pt x="13767" y="15949"/>
                </a:cubicBezTo>
              </a:path>
              <a:path w="1638" h="1067">
                <a:moveTo>
                  <a:pt x="14163" y="15825"/>
                </a:moveTo>
                <a:cubicBezTo>
                  <a:pt x="14167" y="15859"/>
                  <a:pt x="14166" y="15989"/>
                  <a:pt x="14213" y="15999"/>
                </a:cubicBezTo>
                <a:cubicBezTo>
                  <a:pt x="14238" y="15999"/>
                  <a:pt x="14263" y="15999"/>
                  <a:pt x="14288" y="15999"/>
                </a:cubicBezTo>
              </a:path>
              <a:path w="1638" h="1067">
                <a:moveTo>
                  <a:pt x="14387" y="15900"/>
                </a:moveTo>
                <a:cubicBezTo>
                  <a:pt x="14353" y="15973"/>
                  <a:pt x="14325" y="16021"/>
                  <a:pt x="14312" y="16098"/>
                </a:cubicBezTo>
              </a:path>
              <a:path w="1638" h="1067">
                <a:moveTo>
                  <a:pt x="14163" y="15677"/>
                </a:moveTo>
                <a:cubicBezTo>
                  <a:pt x="14229" y="15677"/>
                  <a:pt x="14340" y="15692"/>
                  <a:pt x="14362" y="15677"/>
                </a:cubicBezTo>
              </a:path>
              <a:path w="1638" h="1067">
                <a:moveTo>
                  <a:pt x="14139" y="15404"/>
                </a:moveTo>
                <a:cubicBezTo>
                  <a:pt x="14139" y="15379"/>
                  <a:pt x="14139" y="15371"/>
                  <a:pt x="14114" y="15379"/>
                </a:cubicBezTo>
                <a:cubicBezTo>
                  <a:pt x="14114" y="15442"/>
                  <a:pt x="14088" y="15508"/>
                  <a:pt x="14188" y="15503"/>
                </a:cubicBezTo>
                <a:cubicBezTo>
                  <a:pt x="14232" y="15481"/>
                  <a:pt x="14244" y="15478"/>
                  <a:pt x="14263" y="15453"/>
                </a:cubicBezTo>
              </a:path>
              <a:path w="1638" h="1067">
                <a:moveTo>
                  <a:pt x="14263" y="15354"/>
                </a:moveTo>
                <a:cubicBezTo>
                  <a:pt x="14239" y="15448"/>
                  <a:pt x="14220" y="15531"/>
                  <a:pt x="14213" y="15627"/>
                </a:cubicBezTo>
              </a:path>
              <a:path w="1638" h="1067">
                <a:moveTo>
                  <a:pt x="14833" y="15032"/>
                </a:moveTo>
                <a:cubicBezTo>
                  <a:pt x="14833" y="15167"/>
                  <a:pt x="14817" y="15295"/>
                  <a:pt x="14808" y="15429"/>
                </a:cubicBezTo>
                <a:cubicBezTo>
                  <a:pt x="14803" y="15506"/>
                  <a:pt x="14807" y="15578"/>
                  <a:pt x="14784" y="15577"/>
                </a:cubicBezTo>
              </a:path>
              <a:path w="1638" h="1067">
                <a:moveTo>
                  <a:pt x="15056" y="15106"/>
                </a:moveTo>
                <a:cubicBezTo>
                  <a:pt x="15076" y="15244"/>
                  <a:pt x="15029" y="15342"/>
                  <a:pt x="15032" y="15478"/>
                </a:cubicBezTo>
                <a:cubicBezTo>
                  <a:pt x="15036" y="15653"/>
                  <a:pt x="15189" y="15624"/>
                  <a:pt x="15304" y="15553"/>
                </a:cubicBezTo>
                <a:cubicBezTo>
                  <a:pt x="15412" y="15486"/>
                  <a:pt x="15380" y="15449"/>
                  <a:pt x="15354" y="15354"/>
                </a:cubicBezTo>
                <a:cubicBezTo>
                  <a:pt x="15246" y="15399"/>
                  <a:pt x="15123" y="15454"/>
                  <a:pt x="15156" y="15602"/>
                </a:cubicBezTo>
                <a:cubicBezTo>
                  <a:pt x="15164" y="15602"/>
                  <a:pt x="15172" y="15602"/>
                  <a:pt x="15180" y="1560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70720" y="2625840"/>
            <a:ext cx="1440" cy="160200"/>
          </a:xfrm>
          <a:custGeom>
            <a:avLst/>
            <a:gdLst/>
            <a:ahLst/>
            <a:rect l="l" t="t" r="r" b="b"/>
            <a:pathLst>
              <a:path w="1" h="447">
                <a:moveTo>
                  <a:pt x="15751" y="7317"/>
                </a:moveTo>
                <a:cubicBezTo>
                  <a:pt x="15751" y="7251"/>
                  <a:pt x="15751" y="7400"/>
                  <a:pt x="15751" y="7466"/>
                </a:cubicBezTo>
                <a:cubicBezTo>
                  <a:pt x="15751" y="7557"/>
                  <a:pt x="15751" y="7648"/>
                  <a:pt x="15751" y="7739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87840" y="5705640"/>
            <a:ext cx="71280" cy="9360"/>
          </a:xfrm>
          <a:custGeom>
            <a:avLst/>
            <a:gdLst/>
            <a:ahLst/>
            <a:rect l="l" t="t" r="r" b="b"/>
            <a:pathLst>
              <a:path w="200" h="26">
                <a:moveTo>
                  <a:pt x="10244" y="15850"/>
                </a:moveTo>
                <a:cubicBezTo>
                  <a:pt x="10323" y="15867"/>
                  <a:pt x="10366" y="15875"/>
                  <a:pt x="10443" y="15875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2240" y="5518080"/>
            <a:ext cx="54000" cy="241200"/>
          </a:xfrm>
          <a:custGeom>
            <a:avLst/>
            <a:gdLst/>
            <a:ahLst/>
            <a:rect l="l" t="t" r="r" b="b"/>
            <a:pathLst>
              <a:path w="150" h="671">
                <a:moveTo>
                  <a:pt x="11435" y="15329"/>
                </a:moveTo>
                <a:cubicBezTo>
                  <a:pt x="11392" y="15534"/>
                  <a:pt x="11367" y="15748"/>
                  <a:pt x="11311" y="15949"/>
                </a:cubicBezTo>
                <a:cubicBezTo>
                  <a:pt x="11303" y="15966"/>
                  <a:pt x="11294" y="15982"/>
                  <a:pt x="11286" y="15999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24240" y="5500800"/>
            <a:ext cx="177840" cy="25848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1832" y="15280"/>
                </a:moveTo>
                <a:cubicBezTo>
                  <a:pt x="11783" y="15465"/>
                  <a:pt x="11694" y="15680"/>
                  <a:pt x="11733" y="15875"/>
                </a:cubicBezTo>
                <a:cubicBezTo>
                  <a:pt x="11749" y="15908"/>
                  <a:pt x="11766" y="15941"/>
                  <a:pt x="11782" y="15974"/>
                </a:cubicBezTo>
                <a:cubicBezTo>
                  <a:pt x="11988" y="15997"/>
                  <a:pt x="12138" y="15970"/>
                  <a:pt x="12229" y="15751"/>
                </a:cubicBezTo>
                <a:cubicBezTo>
                  <a:pt x="12229" y="15726"/>
                  <a:pt x="12229" y="15702"/>
                  <a:pt x="12229" y="15677"/>
                </a:cubicBezTo>
                <a:cubicBezTo>
                  <a:pt x="12091" y="15750"/>
                  <a:pt x="12006" y="15824"/>
                  <a:pt x="12005" y="1597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76840" y="5392800"/>
            <a:ext cx="179280" cy="474480"/>
          </a:xfrm>
          <a:custGeom>
            <a:avLst/>
            <a:gdLst/>
            <a:ahLst/>
            <a:rect l="l" t="t" r="r" b="b"/>
            <a:pathLst>
              <a:path w="497" h="1316">
                <a:moveTo>
                  <a:pt x="13419" y="14982"/>
                </a:moveTo>
                <a:cubicBezTo>
                  <a:pt x="13402" y="15047"/>
                  <a:pt x="13395" y="15091"/>
                  <a:pt x="13395" y="15156"/>
                </a:cubicBezTo>
                <a:cubicBezTo>
                  <a:pt x="13529" y="15156"/>
                  <a:pt x="13564" y="15136"/>
                  <a:pt x="13667" y="15056"/>
                </a:cubicBezTo>
              </a:path>
              <a:path w="497" h="1316">
                <a:moveTo>
                  <a:pt x="13568" y="15032"/>
                </a:moveTo>
                <a:cubicBezTo>
                  <a:pt x="13563" y="15150"/>
                  <a:pt x="13551" y="15262"/>
                  <a:pt x="13543" y="15379"/>
                </a:cubicBezTo>
              </a:path>
              <a:path w="497" h="1316">
                <a:moveTo>
                  <a:pt x="13271" y="15627"/>
                </a:moveTo>
                <a:cubicBezTo>
                  <a:pt x="13438" y="15622"/>
                  <a:pt x="13601" y="15611"/>
                  <a:pt x="13767" y="15602"/>
                </a:cubicBezTo>
              </a:path>
              <a:path w="497" h="1316">
                <a:moveTo>
                  <a:pt x="13295" y="16024"/>
                </a:moveTo>
                <a:cubicBezTo>
                  <a:pt x="13271" y="16024"/>
                  <a:pt x="13263" y="16024"/>
                  <a:pt x="13271" y="16049"/>
                </a:cubicBezTo>
                <a:cubicBezTo>
                  <a:pt x="13298" y="16088"/>
                  <a:pt x="13416" y="16117"/>
                  <a:pt x="13469" y="16173"/>
                </a:cubicBezTo>
                <a:cubicBezTo>
                  <a:pt x="13565" y="16275"/>
                  <a:pt x="13419" y="16282"/>
                  <a:pt x="13370" y="16272"/>
                </a:cubicBezTo>
              </a:path>
              <a:path w="497" h="1316">
                <a:moveTo>
                  <a:pt x="13618" y="15825"/>
                </a:moveTo>
                <a:cubicBezTo>
                  <a:pt x="13643" y="15809"/>
                  <a:pt x="13667" y="15792"/>
                  <a:pt x="13692" y="15776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75160" y="5742000"/>
            <a:ext cx="241560" cy="125280"/>
          </a:xfrm>
          <a:custGeom>
            <a:avLst/>
            <a:gdLst/>
            <a:ahLst/>
            <a:rect l="l" t="t" r="r" b="b"/>
            <a:pathLst>
              <a:path w="671" h="349">
                <a:moveTo>
                  <a:pt x="15007" y="15949"/>
                </a:moveTo>
                <a:cubicBezTo>
                  <a:pt x="15118" y="16002"/>
                  <a:pt x="15345" y="16067"/>
                  <a:pt x="15205" y="16222"/>
                </a:cubicBezTo>
                <a:cubicBezTo>
                  <a:pt x="15166" y="16265"/>
                  <a:pt x="14988" y="16344"/>
                  <a:pt x="14932" y="16297"/>
                </a:cubicBezTo>
                <a:cubicBezTo>
                  <a:pt x="14932" y="16289"/>
                  <a:pt x="14932" y="16280"/>
                  <a:pt x="14932" y="16272"/>
                </a:cubicBezTo>
                <a:cubicBezTo>
                  <a:pt x="15035" y="16182"/>
                  <a:pt x="15006" y="16196"/>
                  <a:pt x="15106" y="16247"/>
                </a:cubicBezTo>
                <a:cubicBezTo>
                  <a:pt x="15180" y="16272"/>
                  <a:pt x="15205" y="16280"/>
                  <a:pt x="15255" y="16247"/>
                </a:cubicBezTo>
              </a:path>
              <a:path w="671" h="349">
                <a:moveTo>
                  <a:pt x="15404" y="15999"/>
                </a:moveTo>
                <a:cubicBezTo>
                  <a:pt x="15373" y="16101"/>
                  <a:pt x="15348" y="16183"/>
                  <a:pt x="15478" y="16197"/>
                </a:cubicBezTo>
                <a:cubicBezTo>
                  <a:pt x="15557" y="16206"/>
                  <a:pt x="15674" y="16050"/>
                  <a:pt x="15602" y="15999"/>
                </a:cubicBezTo>
                <a:cubicBezTo>
                  <a:pt x="15569" y="15991"/>
                  <a:pt x="15536" y="15982"/>
                  <a:pt x="15503" y="15974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65960" y="4446720"/>
            <a:ext cx="473040" cy="608040"/>
          </a:xfrm>
          <a:custGeom>
            <a:avLst/>
            <a:gdLst/>
            <a:ahLst/>
            <a:rect l="l" t="t" r="r" b="b"/>
            <a:pathLst>
              <a:path w="1315" h="1687">
                <a:moveTo>
                  <a:pt x="18207" y="13568"/>
                </a:moveTo>
                <a:cubicBezTo>
                  <a:pt x="18490" y="13653"/>
                  <a:pt x="18736" y="13759"/>
                  <a:pt x="19000" y="13891"/>
                </a:cubicBezTo>
                <a:cubicBezTo>
                  <a:pt x="19094" y="13938"/>
                  <a:pt x="19188" y="13980"/>
                  <a:pt x="19273" y="14039"/>
                </a:cubicBezTo>
              </a:path>
              <a:path w="1315" h="1687">
                <a:moveTo>
                  <a:pt x="18405" y="12576"/>
                </a:moveTo>
                <a:cubicBezTo>
                  <a:pt x="18382" y="12615"/>
                  <a:pt x="18382" y="12632"/>
                  <a:pt x="18355" y="12650"/>
                </a:cubicBezTo>
                <a:cubicBezTo>
                  <a:pt x="18369" y="12568"/>
                  <a:pt x="18434" y="12426"/>
                  <a:pt x="18529" y="12551"/>
                </a:cubicBezTo>
                <a:cubicBezTo>
                  <a:pt x="18706" y="12783"/>
                  <a:pt x="18394" y="13089"/>
                  <a:pt x="18231" y="13221"/>
                </a:cubicBezTo>
                <a:cubicBezTo>
                  <a:pt x="18094" y="13299"/>
                  <a:pt x="18078" y="13332"/>
                  <a:pt x="17983" y="13320"/>
                </a:cubicBezTo>
                <a:cubicBezTo>
                  <a:pt x="17984" y="13136"/>
                  <a:pt x="18015" y="12914"/>
                  <a:pt x="18256" y="12898"/>
                </a:cubicBezTo>
                <a:cubicBezTo>
                  <a:pt x="18459" y="12884"/>
                  <a:pt x="18503" y="13092"/>
                  <a:pt x="18529" y="13246"/>
                </a:cubicBezTo>
                <a:cubicBezTo>
                  <a:pt x="18529" y="13316"/>
                  <a:pt x="18538" y="13314"/>
                  <a:pt x="18579" y="13196"/>
                </a:cubicBezTo>
              </a:path>
              <a:path w="1315" h="1687">
                <a:moveTo>
                  <a:pt x="18852" y="12353"/>
                </a:moveTo>
                <a:cubicBezTo>
                  <a:pt x="18772" y="12542"/>
                  <a:pt x="18689" y="12739"/>
                  <a:pt x="18752" y="12948"/>
                </a:cubicBezTo>
                <a:cubicBezTo>
                  <a:pt x="18769" y="12973"/>
                  <a:pt x="18785" y="12997"/>
                  <a:pt x="18802" y="13022"/>
                </a:cubicBezTo>
                <a:cubicBezTo>
                  <a:pt x="19000" y="12987"/>
                  <a:pt x="19174" y="12867"/>
                  <a:pt x="19174" y="12626"/>
                </a:cubicBezTo>
                <a:cubicBezTo>
                  <a:pt x="19174" y="12375"/>
                  <a:pt x="18905" y="12419"/>
                  <a:pt x="18752" y="12402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18240" y="4402080"/>
            <a:ext cx="1046160" cy="642960"/>
          </a:xfrm>
          <a:custGeom>
            <a:avLst/>
            <a:gdLst/>
            <a:ahLst/>
            <a:rect l="l" t="t" r="r" b="b"/>
            <a:pathLst>
              <a:path w="2903" h="1787">
                <a:moveTo>
                  <a:pt x="20935" y="13320"/>
                </a:moveTo>
                <a:cubicBezTo>
                  <a:pt x="20935" y="13295"/>
                  <a:pt x="20935" y="13287"/>
                  <a:pt x="20935" y="13271"/>
                </a:cubicBezTo>
                <a:cubicBezTo>
                  <a:pt x="20955" y="13366"/>
                  <a:pt x="20974" y="13468"/>
                  <a:pt x="20985" y="13568"/>
                </a:cubicBezTo>
                <a:cubicBezTo>
                  <a:pt x="20985" y="13585"/>
                  <a:pt x="20985" y="13601"/>
                  <a:pt x="20985" y="13618"/>
                </a:cubicBezTo>
              </a:path>
              <a:path w="2903" h="1787">
                <a:moveTo>
                  <a:pt x="20886" y="13494"/>
                </a:moveTo>
                <a:cubicBezTo>
                  <a:pt x="20977" y="13484"/>
                  <a:pt x="21048" y="13444"/>
                  <a:pt x="21134" y="13419"/>
                </a:cubicBezTo>
                <a:cubicBezTo>
                  <a:pt x="21158" y="13419"/>
                  <a:pt x="21167" y="13419"/>
                  <a:pt x="21183" y="13419"/>
                </a:cubicBezTo>
              </a:path>
              <a:path w="2903" h="1787">
                <a:moveTo>
                  <a:pt x="21431" y="12824"/>
                </a:moveTo>
                <a:cubicBezTo>
                  <a:pt x="21493" y="12885"/>
                  <a:pt x="21467" y="12936"/>
                  <a:pt x="21481" y="13022"/>
                </a:cubicBezTo>
                <a:cubicBezTo>
                  <a:pt x="21515" y="13222"/>
                  <a:pt x="21479" y="13420"/>
                  <a:pt x="21506" y="13618"/>
                </a:cubicBezTo>
                <a:cubicBezTo>
                  <a:pt x="21515" y="13685"/>
                  <a:pt x="21516" y="13775"/>
                  <a:pt x="21530" y="13841"/>
                </a:cubicBezTo>
                <a:cubicBezTo>
                  <a:pt x="21543" y="13904"/>
                  <a:pt x="21537" y="13880"/>
                  <a:pt x="21530" y="13940"/>
                </a:cubicBezTo>
                <a:cubicBezTo>
                  <a:pt x="21530" y="13982"/>
                  <a:pt x="21530" y="13990"/>
                  <a:pt x="21530" y="14015"/>
                </a:cubicBezTo>
                <a:cubicBezTo>
                  <a:pt x="21592" y="14008"/>
                  <a:pt x="21646" y="13975"/>
                  <a:pt x="21704" y="13965"/>
                </a:cubicBezTo>
                <a:cubicBezTo>
                  <a:pt x="21786" y="13951"/>
                  <a:pt x="21872" y="13965"/>
                  <a:pt x="21952" y="13940"/>
                </a:cubicBezTo>
                <a:cubicBezTo>
                  <a:pt x="22031" y="13915"/>
                  <a:pt x="22089" y="13915"/>
                  <a:pt x="22175" y="13915"/>
                </a:cubicBezTo>
                <a:cubicBezTo>
                  <a:pt x="22250" y="13915"/>
                  <a:pt x="22324" y="13915"/>
                  <a:pt x="22399" y="13915"/>
                </a:cubicBezTo>
                <a:cubicBezTo>
                  <a:pt x="22374" y="13859"/>
                  <a:pt x="22347" y="13817"/>
                  <a:pt x="22324" y="13767"/>
                </a:cubicBezTo>
                <a:cubicBezTo>
                  <a:pt x="22296" y="13705"/>
                  <a:pt x="22235" y="13610"/>
                  <a:pt x="22225" y="13543"/>
                </a:cubicBezTo>
                <a:cubicBezTo>
                  <a:pt x="22214" y="13469"/>
                  <a:pt x="22220" y="13391"/>
                  <a:pt x="22200" y="13320"/>
                </a:cubicBezTo>
                <a:cubicBezTo>
                  <a:pt x="22179" y="13248"/>
                  <a:pt x="22153" y="13167"/>
                  <a:pt x="22126" y="13097"/>
                </a:cubicBezTo>
                <a:cubicBezTo>
                  <a:pt x="22104" y="13040"/>
                  <a:pt x="22074" y="12976"/>
                  <a:pt x="22051" y="12923"/>
                </a:cubicBezTo>
                <a:cubicBezTo>
                  <a:pt x="22027" y="12866"/>
                  <a:pt x="22025" y="12805"/>
                  <a:pt x="22002" y="12750"/>
                </a:cubicBezTo>
                <a:cubicBezTo>
                  <a:pt x="21981" y="12700"/>
                  <a:pt x="21935" y="12627"/>
                  <a:pt x="21927" y="12576"/>
                </a:cubicBezTo>
                <a:cubicBezTo>
                  <a:pt x="21919" y="12523"/>
                  <a:pt x="21918" y="12477"/>
                  <a:pt x="21903" y="12427"/>
                </a:cubicBezTo>
                <a:cubicBezTo>
                  <a:pt x="21887" y="12373"/>
                  <a:pt x="21842" y="12332"/>
                  <a:pt x="21828" y="12278"/>
                </a:cubicBezTo>
                <a:cubicBezTo>
                  <a:pt x="21816" y="12234"/>
                  <a:pt x="21819" y="12252"/>
                  <a:pt x="21803" y="12229"/>
                </a:cubicBezTo>
                <a:cubicBezTo>
                  <a:pt x="21711" y="12255"/>
                  <a:pt x="21666" y="12363"/>
                  <a:pt x="21605" y="12452"/>
                </a:cubicBezTo>
                <a:cubicBezTo>
                  <a:pt x="21568" y="12507"/>
                  <a:pt x="21506" y="12606"/>
                  <a:pt x="21456" y="12650"/>
                </a:cubicBezTo>
                <a:cubicBezTo>
                  <a:pt x="21409" y="12691"/>
                  <a:pt x="21352" y="12721"/>
                  <a:pt x="21307" y="12774"/>
                </a:cubicBezTo>
                <a:cubicBezTo>
                  <a:pt x="21272" y="12816"/>
                  <a:pt x="21263" y="12856"/>
                  <a:pt x="21233" y="12898"/>
                </a:cubicBezTo>
                <a:cubicBezTo>
                  <a:pt x="21197" y="12949"/>
                  <a:pt x="21182" y="12970"/>
                  <a:pt x="21158" y="13022"/>
                </a:cubicBezTo>
                <a:cubicBezTo>
                  <a:pt x="21228" y="13015"/>
                  <a:pt x="21290" y="13000"/>
                  <a:pt x="21357" y="12973"/>
                </a:cubicBezTo>
                <a:cubicBezTo>
                  <a:pt x="21404" y="12954"/>
                  <a:pt x="21422" y="12952"/>
                  <a:pt x="21481" y="12948"/>
                </a:cubicBezTo>
                <a:cubicBezTo>
                  <a:pt x="21489" y="12948"/>
                  <a:pt x="21498" y="12948"/>
                  <a:pt x="21506" y="12948"/>
                </a:cubicBezTo>
              </a:path>
              <a:path w="2903" h="1787">
                <a:moveTo>
                  <a:pt x="21580" y="13345"/>
                </a:moveTo>
                <a:cubicBezTo>
                  <a:pt x="21598" y="13290"/>
                  <a:pt x="21642" y="13310"/>
                  <a:pt x="21704" y="13295"/>
                </a:cubicBezTo>
                <a:cubicBezTo>
                  <a:pt x="21788" y="13275"/>
                  <a:pt x="21819" y="13295"/>
                  <a:pt x="21903" y="13295"/>
                </a:cubicBezTo>
                <a:cubicBezTo>
                  <a:pt x="21847" y="13306"/>
                  <a:pt x="21754" y="13323"/>
                  <a:pt x="21704" y="13345"/>
                </a:cubicBezTo>
                <a:cubicBezTo>
                  <a:pt x="21681" y="13368"/>
                  <a:pt x="21677" y="13376"/>
                  <a:pt x="21654" y="13370"/>
                </a:cubicBezTo>
                <a:cubicBezTo>
                  <a:pt x="21667" y="13332"/>
                  <a:pt x="21775" y="13302"/>
                  <a:pt x="21828" y="13295"/>
                </a:cubicBezTo>
                <a:cubicBezTo>
                  <a:pt x="21910" y="13285"/>
                  <a:pt x="21993" y="13271"/>
                  <a:pt x="22076" y="13271"/>
                </a:cubicBezTo>
                <a:cubicBezTo>
                  <a:pt x="22118" y="13271"/>
                  <a:pt x="22114" y="13261"/>
                  <a:pt x="22126" y="13295"/>
                </a:cubicBezTo>
              </a:path>
              <a:path w="2903" h="1787">
                <a:moveTo>
                  <a:pt x="21729" y="13469"/>
                </a:moveTo>
                <a:cubicBezTo>
                  <a:pt x="21729" y="13439"/>
                  <a:pt x="21711" y="13464"/>
                  <a:pt x="21754" y="13444"/>
                </a:cubicBezTo>
                <a:cubicBezTo>
                  <a:pt x="21770" y="13436"/>
                  <a:pt x="21787" y="13427"/>
                  <a:pt x="21803" y="13419"/>
                </a:cubicBezTo>
                <a:cubicBezTo>
                  <a:pt x="21825" y="13518"/>
                  <a:pt x="21786" y="13613"/>
                  <a:pt x="21704" y="13692"/>
                </a:cubicBezTo>
                <a:cubicBezTo>
                  <a:pt x="21648" y="13730"/>
                  <a:pt x="21623" y="13725"/>
                  <a:pt x="21630" y="13767"/>
                </a:cubicBezTo>
                <a:cubicBezTo>
                  <a:pt x="21653" y="13721"/>
                  <a:pt x="21749" y="13679"/>
                  <a:pt x="21803" y="13742"/>
                </a:cubicBezTo>
                <a:cubicBezTo>
                  <a:pt x="21806" y="13745"/>
                  <a:pt x="21825" y="13828"/>
                  <a:pt x="21828" y="13841"/>
                </a:cubicBezTo>
              </a:path>
              <a:path w="2903" h="1787">
                <a:moveTo>
                  <a:pt x="22002" y="13469"/>
                </a:moveTo>
                <a:cubicBezTo>
                  <a:pt x="21989" y="13522"/>
                  <a:pt x="21960" y="13578"/>
                  <a:pt x="21977" y="13643"/>
                </a:cubicBezTo>
                <a:cubicBezTo>
                  <a:pt x="21985" y="13659"/>
                  <a:pt x="21994" y="13676"/>
                  <a:pt x="22002" y="13692"/>
                </a:cubicBezTo>
                <a:cubicBezTo>
                  <a:pt x="22097" y="13681"/>
                  <a:pt x="22133" y="13660"/>
                  <a:pt x="22200" y="13593"/>
                </a:cubicBezTo>
                <a:cubicBezTo>
                  <a:pt x="22127" y="13560"/>
                  <a:pt x="22056" y="13532"/>
                  <a:pt x="21977" y="13519"/>
                </a:cubicBezTo>
              </a:path>
              <a:path w="2903" h="1787">
                <a:moveTo>
                  <a:pt x="21654" y="12824"/>
                </a:moveTo>
                <a:cubicBezTo>
                  <a:pt x="21608" y="12824"/>
                  <a:pt x="21707" y="12805"/>
                  <a:pt x="21704" y="12874"/>
                </a:cubicBezTo>
                <a:cubicBezTo>
                  <a:pt x="21699" y="12979"/>
                  <a:pt x="21597" y="13064"/>
                  <a:pt x="21506" y="13097"/>
                </a:cubicBezTo>
                <a:cubicBezTo>
                  <a:pt x="21498" y="13097"/>
                  <a:pt x="21489" y="13097"/>
                  <a:pt x="21481" y="13097"/>
                </a:cubicBezTo>
                <a:cubicBezTo>
                  <a:pt x="21488" y="13054"/>
                  <a:pt x="21535" y="12994"/>
                  <a:pt x="21605" y="12998"/>
                </a:cubicBezTo>
                <a:cubicBezTo>
                  <a:pt x="21648" y="13019"/>
                  <a:pt x="21660" y="13023"/>
                  <a:pt x="21679" y="13047"/>
                </a:cubicBezTo>
              </a:path>
              <a:path w="2903" h="1787">
                <a:moveTo>
                  <a:pt x="21878" y="12774"/>
                </a:moveTo>
                <a:cubicBezTo>
                  <a:pt x="21828" y="12849"/>
                  <a:pt x="21808" y="12910"/>
                  <a:pt x="21853" y="12998"/>
                </a:cubicBezTo>
                <a:cubicBezTo>
                  <a:pt x="21893" y="13077"/>
                  <a:pt x="22019" y="12987"/>
                  <a:pt x="22051" y="12948"/>
                </a:cubicBezTo>
                <a:cubicBezTo>
                  <a:pt x="22123" y="12860"/>
                  <a:pt x="22064" y="12811"/>
                  <a:pt x="21977" y="12799"/>
                </a:cubicBezTo>
                <a:cubicBezTo>
                  <a:pt x="21952" y="12799"/>
                  <a:pt x="21928" y="12799"/>
                  <a:pt x="21903" y="12799"/>
                </a:cubicBezTo>
              </a:path>
              <a:path w="2903" h="1787">
                <a:moveTo>
                  <a:pt x="22448" y="13295"/>
                </a:moveTo>
                <a:cubicBezTo>
                  <a:pt x="22525" y="13286"/>
                  <a:pt x="22597" y="13271"/>
                  <a:pt x="22671" y="13246"/>
                </a:cubicBezTo>
              </a:path>
              <a:path w="2903" h="1787">
                <a:moveTo>
                  <a:pt x="22572" y="13469"/>
                </a:moveTo>
                <a:cubicBezTo>
                  <a:pt x="22634" y="13461"/>
                  <a:pt x="22682" y="13444"/>
                  <a:pt x="22746" y="13444"/>
                </a:cubicBezTo>
              </a:path>
              <a:path w="2903" h="1787">
                <a:moveTo>
                  <a:pt x="22944" y="12824"/>
                </a:moveTo>
                <a:cubicBezTo>
                  <a:pt x="22944" y="12750"/>
                  <a:pt x="22927" y="12751"/>
                  <a:pt x="23019" y="12725"/>
                </a:cubicBezTo>
                <a:cubicBezTo>
                  <a:pt x="23027" y="12725"/>
                  <a:pt x="23036" y="12725"/>
                  <a:pt x="23044" y="12725"/>
                </a:cubicBezTo>
                <a:cubicBezTo>
                  <a:pt x="23101" y="12843"/>
                  <a:pt x="23030" y="12872"/>
                  <a:pt x="22944" y="12948"/>
                </a:cubicBezTo>
                <a:cubicBezTo>
                  <a:pt x="22936" y="12956"/>
                  <a:pt x="22928" y="12965"/>
                  <a:pt x="22920" y="12973"/>
                </a:cubicBezTo>
                <a:cubicBezTo>
                  <a:pt x="23000" y="12957"/>
                  <a:pt x="23088" y="12949"/>
                  <a:pt x="23093" y="13072"/>
                </a:cubicBezTo>
                <a:cubicBezTo>
                  <a:pt x="23097" y="13184"/>
                  <a:pt x="22943" y="13284"/>
                  <a:pt x="22845" y="13271"/>
                </a:cubicBezTo>
                <a:cubicBezTo>
                  <a:pt x="22805" y="13251"/>
                  <a:pt x="22789" y="13252"/>
                  <a:pt x="22796" y="13221"/>
                </a:cubicBezTo>
              </a:path>
              <a:path w="2903" h="1787">
                <a:moveTo>
                  <a:pt x="23440" y="12725"/>
                </a:moveTo>
                <a:cubicBezTo>
                  <a:pt x="23395" y="12759"/>
                  <a:pt x="23378" y="12830"/>
                  <a:pt x="23366" y="12898"/>
                </a:cubicBezTo>
                <a:cubicBezTo>
                  <a:pt x="23420" y="12889"/>
                  <a:pt x="23567" y="12841"/>
                  <a:pt x="23540" y="12973"/>
                </a:cubicBezTo>
                <a:cubicBezTo>
                  <a:pt x="23503" y="13156"/>
                  <a:pt x="23299" y="13100"/>
                  <a:pt x="23192" y="13072"/>
                </a:cubicBezTo>
              </a:path>
              <a:path w="2903" h="1787">
                <a:moveTo>
                  <a:pt x="23242" y="12799"/>
                </a:moveTo>
                <a:cubicBezTo>
                  <a:pt x="23412" y="12749"/>
                  <a:pt x="23512" y="12719"/>
                  <a:pt x="23688" y="12750"/>
                </a:cubicBezTo>
              </a:path>
              <a:path w="2903" h="1787">
                <a:moveTo>
                  <a:pt x="22969" y="13395"/>
                </a:moveTo>
                <a:cubicBezTo>
                  <a:pt x="23122" y="13325"/>
                  <a:pt x="23271" y="13288"/>
                  <a:pt x="23440" y="13271"/>
                </a:cubicBezTo>
                <a:cubicBezTo>
                  <a:pt x="23498" y="13271"/>
                  <a:pt x="23507" y="13271"/>
                  <a:pt x="23540" y="13271"/>
                </a:cubicBezTo>
              </a:path>
              <a:path w="2903" h="1787">
                <a:moveTo>
                  <a:pt x="23118" y="13568"/>
                </a:moveTo>
                <a:cubicBezTo>
                  <a:pt x="23169" y="13516"/>
                  <a:pt x="23282" y="13551"/>
                  <a:pt x="23366" y="13568"/>
                </a:cubicBezTo>
                <a:cubicBezTo>
                  <a:pt x="23380" y="13746"/>
                  <a:pt x="23270" y="13882"/>
                  <a:pt x="23093" y="13965"/>
                </a:cubicBezTo>
                <a:cubicBezTo>
                  <a:pt x="22999" y="13984"/>
                  <a:pt x="22979" y="14014"/>
                  <a:pt x="22944" y="13965"/>
                </a:cubicBezTo>
                <a:cubicBezTo>
                  <a:pt x="23000" y="13870"/>
                  <a:pt x="23048" y="13832"/>
                  <a:pt x="23143" y="13767"/>
                </a:cubicBezTo>
                <a:cubicBezTo>
                  <a:pt x="23199" y="13807"/>
                  <a:pt x="23228" y="13869"/>
                  <a:pt x="23292" y="13891"/>
                </a:cubicBezTo>
                <a:cubicBezTo>
                  <a:pt x="23317" y="13899"/>
                  <a:pt x="23341" y="13907"/>
                  <a:pt x="23366" y="13915"/>
                </a:cubicBezTo>
              </a:path>
              <a:path w="2903" h="1787">
                <a:moveTo>
                  <a:pt x="23614" y="13519"/>
                </a:moveTo>
                <a:cubicBezTo>
                  <a:pt x="23554" y="13621"/>
                  <a:pt x="23517" y="13679"/>
                  <a:pt x="23564" y="13791"/>
                </a:cubicBezTo>
                <a:cubicBezTo>
                  <a:pt x="23711" y="13804"/>
                  <a:pt x="23730" y="13757"/>
                  <a:pt x="23788" y="13618"/>
                </a:cubicBezTo>
                <a:cubicBezTo>
                  <a:pt x="23687" y="13573"/>
                  <a:pt x="23677" y="13578"/>
                  <a:pt x="23564" y="13593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10240" y="4626000"/>
            <a:ext cx="936720" cy="446040"/>
          </a:xfrm>
          <a:custGeom>
            <a:avLst/>
            <a:gdLst/>
            <a:ahLst/>
            <a:rect l="l" t="t" r="r" b="b"/>
            <a:pathLst>
              <a:path w="2605" h="1241">
                <a:moveTo>
                  <a:pt x="18331" y="13494"/>
                </a:moveTo>
                <a:cubicBezTo>
                  <a:pt x="18411" y="13478"/>
                  <a:pt x="18469" y="13416"/>
                  <a:pt x="18554" y="13469"/>
                </a:cubicBezTo>
                <a:cubicBezTo>
                  <a:pt x="18736" y="13583"/>
                  <a:pt x="18587" y="13853"/>
                  <a:pt x="18455" y="13940"/>
                </a:cubicBezTo>
                <a:cubicBezTo>
                  <a:pt x="18296" y="14045"/>
                  <a:pt x="18160" y="14009"/>
                  <a:pt x="18083" y="13866"/>
                </a:cubicBezTo>
                <a:cubicBezTo>
                  <a:pt x="18173" y="13759"/>
                  <a:pt x="18279" y="13795"/>
                  <a:pt x="18405" y="13866"/>
                </a:cubicBezTo>
                <a:cubicBezTo>
                  <a:pt x="18492" y="13915"/>
                  <a:pt x="18553" y="13995"/>
                  <a:pt x="18653" y="14015"/>
                </a:cubicBezTo>
              </a:path>
              <a:path w="2605" h="1241">
                <a:moveTo>
                  <a:pt x="18976" y="13494"/>
                </a:moveTo>
                <a:cubicBezTo>
                  <a:pt x="19001" y="13692"/>
                  <a:pt x="18999" y="13867"/>
                  <a:pt x="18976" y="14064"/>
                </a:cubicBezTo>
                <a:cubicBezTo>
                  <a:pt x="18976" y="14089"/>
                  <a:pt x="18976" y="14097"/>
                  <a:pt x="18976" y="14064"/>
                </a:cubicBezTo>
              </a:path>
              <a:path w="2605" h="1241">
                <a:moveTo>
                  <a:pt x="20067" y="12923"/>
                </a:moveTo>
                <a:cubicBezTo>
                  <a:pt x="20067" y="13027"/>
                  <a:pt x="20036" y="13120"/>
                  <a:pt x="20017" y="13221"/>
                </a:cubicBezTo>
                <a:cubicBezTo>
                  <a:pt x="20017" y="13229"/>
                  <a:pt x="20017" y="13238"/>
                  <a:pt x="20017" y="13246"/>
                </a:cubicBezTo>
              </a:path>
              <a:path w="2605" h="1241">
                <a:moveTo>
                  <a:pt x="20439" y="12849"/>
                </a:moveTo>
                <a:cubicBezTo>
                  <a:pt x="20418" y="12902"/>
                  <a:pt x="20328" y="12956"/>
                  <a:pt x="20389" y="13022"/>
                </a:cubicBezTo>
                <a:cubicBezTo>
                  <a:pt x="20440" y="13078"/>
                  <a:pt x="20591" y="13089"/>
                  <a:pt x="20513" y="13196"/>
                </a:cubicBezTo>
                <a:cubicBezTo>
                  <a:pt x="20440" y="13270"/>
                  <a:pt x="20416" y="13295"/>
                  <a:pt x="20340" y="13295"/>
                </a:cubicBezTo>
              </a:path>
              <a:path w="2605" h="1241">
                <a:moveTo>
                  <a:pt x="20464" y="12874"/>
                </a:moveTo>
                <a:cubicBezTo>
                  <a:pt x="20575" y="12859"/>
                  <a:pt x="20586" y="12854"/>
                  <a:pt x="20687" y="12898"/>
                </a:cubicBezTo>
              </a:path>
              <a:path w="2605" h="1241">
                <a:moveTo>
                  <a:pt x="19968" y="13469"/>
                </a:moveTo>
                <a:cubicBezTo>
                  <a:pt x="20153" y="13440"/>
                  <a:pt x="20304" y="13423"/>
                  <a:pt x="20489" y="13444"/>
                </a:cubicBezTo>
              </a:path>
              <a:path w="2605" h="1241">
                <a:moveTo>
                  <a:pt x="20042" y="13667"/>
                </a:moveTo>
                <a:cubicBezTo>
                  <a:pt x="20094" y="13688"/>
                  <a:pt x="20191" y="13770"/>
                  <a:pt x="20191" y="13841"/>
                </a:cubicBezTo>
                <a:cubicBezTo>
                  <a:pt x="20191" y="14006"/>
                  <a:pt x="19944" y="13987"/>
                  <a:pt x="19844" y="13965"/>
                </a:cubicBezTo>
                <a:cubicBezTo>
                  <a:pt x="19819" y="13957"/>
                  <a:pt x="19794" y="13948"/>
                  <a:pt x="19769" y="13940"/>
                </a:cubicBezTo>
                <a:cubicBezTo>
                  <a:pt x="19805" y="13904"/>
                  <a:pt x="19964" y="13879"/>
                  <a:pt x="20042" y="13891"/>
                </a:cubicBezTo>
                <a:cubicBezTo>
                  <a:pt x="20078" y="13896"/>
                  <a:pt x="20135" y="13947"/>
                  <a:pt x="20166" y="13965"/>
                </a:cubicBezTo>
              </a:path>
              <a:path w="2605" h="1241">
                <a:moveTo>
                  <a:pt x="20414" y="13767"/>
                </a:moveTo>
                <a:cubicBezTo>
                  <a:pt x="20353" y="13819"/>
                  <a:pt x="20271" y="13938"/>
                  <a:pt x="20389" y="13990"/>
                </a:cubicBezTo>
                <a:cubicBezTo>
                  <a:pt x="20499" y="14038"/>
                  <a:pt x="20561" y="13855"/>
                  <a:pt x="20588" y="13791"/>
                </a:cubicBezTo>
                <a:cubicBezTo>
                  <a:pt x="20496" y="13731"/>
                  <a:pt x="20451" y="13711"/>
                  <a:pt x="20365" y="1371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6760" y="5429160"/>
            <a:ext cx="1785960" cy="1384560"/>
          </a:xfrm>
          <a:custGeom>
            <a:avLst/>
            <a:gdLst/>
            <a:ahLst/>
            <a:rect l="l" t="t" r="r" b="b"/>
            <a:pathLst>
              <a:path w="4962" h="3846">
                <a:moveTo>
                  <a:pt x="16991" y="15652"/>
                </a:moveTo>
                <a:cubicBezTo>
                  <a:pt x="17085" y="15652"/>
                  <a:pt x="17171" y="15634"/>
                  <a:pt x="17264" y="15627"/>
                </a:cubicBezTo>
              </a:path>
              <a:path w="4962" h="3846">
                <a:moveTo>
                  <a:pt x="18653" y="15255"/>
                </a:moveTo>
                <a:cubicBezTo>
                  <a:pt x="18676" y="15498"/>
                  <a:pt x="18624" y="15729"/>
                  <a:pt x="18604" y="15974"/>
                </a:cubicBezTo>
                <a:cubicBezTo>
                  <a:pt x="18593" y="16104"/>
                  <a:pt x="18592" y="16123"/>
                  <a:pt x="18678" y="16073"/>
                </a:cubicBezTo>
              </a:path>
              <a:path w="4962" h="3846">
                <a:moveTo>
                  <a:pt x="19224" y="15453"/>
                </a:moveTo>
                <a:cubicBezTo>
                  <a:pt x="19150" y="15570"/>
                  <a:pt x="19107" y="15686"/>
                  <a:pt x="19100" y="15825"/>
                </a:cubicBezTo>
                <a:cubicBezTo>
                  <a:pt x="19096" y="15905"/>
                  <a:pt x="19100" y="16121"/>
                  <a:pt x="19248" y="16098"/>
                </a:cubicBezTo>
                <a:cubicBezTo>
                  <a:pt x="19388" y="16076"/>
                  <a:pt x="19491" y="15936"/>
                  <a:pt x="19546" y="15825"/>
                </a:cubicBezTo>
                <a:cubicBezTo>
                  <a:pt x="19437" y="15783"/>
                  <a:pt x="19353" y="15761"/>
                  <a:pt x="19273" y="15875"/>
                </a:cubicBezTo>
                <a:cubicBezTo>
                  <a:pt x="19180" y="16008"/>
                  <a:pt x="19283" y="15998"/>
                  <a:pt x="19372" y="15974"/>
                </a:cubicBezTo>
              </a:path>
              <a:path w="4962" h="3846">
                <a:moveTo>
                  <a:pt x="20042" y="15131"/>
                </a:moveTo>
                <a:cubicBezTo>
                  <a:pt x="20032" y="15208"/>
                  <a:pt x="20017" y="15280"/>
                  <a:pt x="19993" y="15354"/>
                </a:cubicBezTo>
              </a:path>
              <a:path w="4962" h="3846">
                <a:moveTo>
                  <a:pt x="20290" y="15081"/>
                </a:moveTo>
                <a:cubicBezTo>
                  <a:pt x="20284" y="15168"/>
                  <a:pt x="20199" y="15382"/>
                  <a:pt x="20265" y="15453"/>
                </a:cubicBezTo>
                <a:cubicBezTo>
                  <a:pt x="20322" y="15514"/>
                  <a:pt x="20469" y="15462"/>
                  <a:pt x="20513" y="15404"/>
                </a:cubicBezTo>
                <a:cubicBezTo>
                  <a:pt x="20513" y="15396"/>
                  <a:pt x="20513" y="15387"/>
                  <a:pt x="20513" y="15379"/>
                </a:cubicBezTo>
                <a:cubicBezTo>
                  <a:pt x="20391" y="15367"/>
                  <a:pt x="20330" y="15408"/>
                  <a:pt x="20290" y="15528"/>
                </a:cubicBezTo>
              </a:path>
              <a:path w="4962" h="3846">
                <a:moveTo>
                  <a:pt x="19943" y="15677"/>
                </a:moveTo>
                <a:cubicBezTo>
                  <a:pt x="20112" y="15641"/>
                  <a:pt x="20266" y="15627"/>
                  <a:pt x="20439" y="15627"/>
                </a:cubicBezTo>
              </a:path>
              <a:path w="4962" h="3846">
                <a:moveTo>
                  <a:pt x="19993" y="15900"/>
                </a:moveTo>
                <a:cubicBezTo>
                  <a:pt x="20051" y="15900"/>
                  <a:pt x="20180" y="15923"/>
                  <a:pt x="20191" y="15999"/>
                </a:cubicBezTo>
                <a:cubicBezTo>
                  <a:pt x="20212" y="16144"/>
                  <a:pt x="20062" y="16234"/>
                  <a:pt x="19943" y="16222"/>
                </a:cubicBezTo>
                <a:cubicBezTo>
                  <a:pt x="19755" y="16203"/>
                  <a:pt x="19875" y="16025"/>
                  <a:pt x="19968" y="15974"/>
                </a:cubicBezTo>
                <a:cubicBezTo>
                  <a:pt x="20110" y="15897"/>
                  <a:pt x="20113" y="16062"/>
                  <a:pt x="20216" y="16098"/>
                </a:cubicBezTo>
                <a:cubicBezTo>
                  <a:pt x="20241" y="16098"/>
                  <a:pt x="20265" y="16098"/>
                  <a:pt x="20290" y="16098"/>
                </a:cubicBezTo>
              </a:path>
              <a:path w="4962" h="3846">
                <a:moveTo>
                  <a:pt x="20414" y="15949"/>
                </a:moveTo>
                <a:cubicBezTo>
                  <a:pt x="20329" y="16057"/>
                  <a:pt x="20263" y="16138"/>
                  <a:pt x="20414" y="16222"/>
                </a:cubicBezTo>
                <a:cubicBezTo>
                  <a:pt x="20553" y="16300"/>
                  <a:pt x="20671" y="16126"/>
                  <a:pt x="20613" y="15999"/>
                </a:cubicBezTo>
                <a:cubicBezTo>
                  <a:pt x="20534" y="15921"/>
                  <a:pt x="20502" y="15896"/>
                  <a:pt x="20414" y="15925"/>
                </a:cubicBezTo>
              </a:path>
              <a:path w="4962" h="3846">
                <a:moveTo>
                  <a:pt x="19794" y="15825"/>
                </a:moveTo>
                <a:cubicBezTo>
                  <a:pt x="19794" y="15817"/>
                  <a:pt x="19794" y="15809"/>
                  <a:pt x="19794" y="15801"/>
                </a:cubicBezTo>
                <a:cubicBezTo>
                  <a:pt x="19864" y="15783"/>
                  <a:pt x="19890" y="15784"/>
                  <a:pt x="19968" y="15801"/>
                </a:cubicBezTo>
                <a:cubicBezTo>
                  <a:pt x="19993" y="15801"/>
                  <a:pt x="20001" y="15801"/>
                  <a:pt x="20017" y="15801"/>
                </a:cubicBezTo>
              </a:path>
              <a:path w="4962" h="3846">
                <a:moveTo>
                  <a:pt x="17636" y="16743"/>
                </a:moveTo>
                <a:cubicBezTo>
                  <a:pt x="17711" y="16800"/>
                  <a:pt x="17765" y="16759"/>
                  <a:pt x="17859" y="16768"/>
                </a:cubicBezTo>
                <a:cubicBezTo>
                  <a:pt x="18102" y="16791"/>
                  <a:pt x="18335" y="16790"/>
                  <a:pt x="18579" y="16768"/>
                </a:cubicBezTo>
                <a:cubicBezTo>
                  <a:pt x="18814" y="16746"/>
                  <a:pt x="19036" y="16718"/>
                  <a:pt x="19273" y="16718"/>
                </a:cubicBezTo>
                <a:cubicBezTo>
                  <a:pt x="19524" y="16718"/>
                  <a:pt x="19770" y="16714"/>
                  <a:pt x="20017" y="16694"/>
                </a:cubicBezTo>
                <a:cubicBezTo>
                  <a:pt x="20162" y="16682"/>
                  <a:pt x="20296" y="16660"/>
                  <a:pt x="20439" y="16644"/>
                </a:cubicBezTo>
                <a:cubicBezTo>
                  <a:pt x="20523" y="16635"/>
                  <a:pt x="20603" y="16622"/>
                  <a:pt x="20687" y="16619"/>
                </a:cubicBezTo>
                <a:cubicBezTo>
                  <a:pt x="20755" y="16617"/>
                  <a:pt x="20832" y="16600"/>
                  <a:pt x="20886" y="16594"/>
                </a:cubicBezTo>
                <a:cubicBezTo>
                  <a:pt x="20910" y="16594"/>
                  <a:pt x="20919" y="16594"/>
                  <a:pt x="20935" y="16594"/>
                </a:cubicBezTo>
              </a:path>
              <a:path w="4962" h="3846">
                <a:moveTo>
                  <a:pt x="20191" y="16991"/>
                </a:moveTo>
                <a:cubicBezTo>
                  <a:pt x="20191" y="17094"/>
                  <a:pt x="20181" y="17213"/>
                  <a:pt x="20166" y="17314"/>
                </a:cubicBezTo>
                <a:cubicBezTo>
                  <a:pt x="20151" y="17418"/>
                  <a:pt x="20103" y="17532"/>
                  <a:pt x="20216" y="17388"/>
                </a:cubicBezTo>
              </a:path>
              <a:path w="4962" h="3846">
                <a:moveTo>
                  <a:pt x="20811" y="16942"/>
                </a:moveTo>
                <a:cubicBezTo>
                  <a:pt x="20811" y="16888"/>
                  <a:pt x="20809" y="16870"/>
                  <a:pt x="20786" y="16818"/>
                </a:cubicBezTo>
                <a:cubicBezTo>
                  <a:pt x="20698" y="16828"/>
                  <a:pt x="20621" y="16842"/>
                  <a:pt x="20563" y="16917"/>
                </a:cubicBezTo>
                <a:cubicBezTo>
                  <a:pt x="20539" y="16965"/>
                  <a:pt x="20530" y="16979"/>
                  <a:pt x="20538" y="17016"/>
                </a:cubicBezTo>
                <a:cubicBezTo>
                  <a:pt x="20620" y="17016"/>
                  <a:pt x="20680" y="17010"/>
                  <a:pt x="20737" y="16942"/>
                </a:cubicBezTo>
                <a:cubicBezTo>
                  <a:pt x="20757" y="16901"/>
                  <a:pt x="20766" y="16895"/>
                  <a:pt x="20762" y="16867"/>
                </a:cubicBezTo>
                <a:cubicBezTo>
                  <a:pt x="20762" y="16955"/>
                  <a:pt x="20754" y="17055"/>
                  <a:pt x="20737" y="17140"/>
                </a:cubicBezTo>
                <a:cubicBezTo>
                  <a:pt x="20725" y="17201"/>
                  <a:pt x="20712" y="17264"/>
                  <a:pt x="20687" y="17314"/>
                </a:cubicBezTo>
              </a:path>
              <a:path w="4962" h="3846">
                <a:moveTo>
                  <a:pt x="19943" y="17661"/>
                </a:moveTo>
                <a:cubicBezTo>
                  <a:pt x="20155" y="17593"/>
                  <a:pt x="20365" y="17533"/>
                  <a:pt x="20588" y="17512"/>
                </a:cubicBezTo>
                <a:cubicBezTo>
                  <a:pt x="20637" y="17507"/>
                  <a:pt x="20745" y="17503"/>
                  <a:pt x="20762" y="17537"/>
                </a:cubicBezTo>
                <a:cubicBezTo>
                  <a:pt x="20762" y="17545"/>
                  <a:pt x="20762" y="17554"/>
                  <a:pt x="20762" y="17562"/>
                </a:cubicBezTo>
              </a:path>
              <a:path w="4962" h="3846">
                <a:moveTo>
                  <a:pt x="20117" y="17983"/>
                </a:moveTo>
                <a:cubicBezTo>
                  <a:pt x="20171" y="17970"/>
                  <a:pt x="20162" y="17949"/>
                  <a:pt x="20191" y="17983"/>
                </a:cubicBezTo>
                <a:cubicBezTo>
                  <a:pt x="20297" y="18107"/>
                  <a:pt x="20213" y="18241"/>
                  <a:pt x="20117" y="18355"/>
                </a:cubicBezTo>
                <a:cubicBezTo>
                  <a:pt x="20041" y="18445"/>
                  <a:pt x="19996" y="18482"/>
                  <a:pt x="19893" y="18504"/>
                </a:cubicBezTo>
                <a:cubicBezTo>
                  <a:pt x="19893" y="18420"/>
                  <a:pt x="19897" y="18403"/>
                  <a:pt x="19968" y="18355"/>
                </a:cubicBezTo>
                <a:cubicBezTo>
                  <a:pt x="20072" y="18285"/>
                  <a:pt x="20130" y="18307"/>
                  <a:pt x="20241" y="18331"/>
                </a:cubicBezTo>
                <a:cubicBezTo>
                  <a:pt x="20280" y="18340"/>
                  <a:pt x="20304" y="18366"/>
                  <a:pt x="20340" y="18380"/>
                </a:cubicBezTo>
              </a:path>
              <a:path w="4962" h="3846">
                <a:moveTo>
                  <a:pt x="20712" y="17859"/>
                </a:moveTo>
                <a:cubicBezTo>
                  <a:pt x="20623" y="17926"/>
                  <a:pt x="20577" y="18015"/>
                  <a:pt x="20563" y="18132"/>
                </a:cubicBezTo>
                <a:cubicBezTo>
                  <a:pt x="20549" y="18244"/>
                  <a:pt x="20546" y="18301"/>
                  <a:pt x="20662" y="18306"/>
                </a:cubicBezTo>
                <a:cubicBezTo>
                  <a:pt x="20782" y="18311"/>
                  <a:pt x="20820" y="18218"/>
                  <a:pt x="20886" y="18132"/>
                </a:cubicBezTo>
                <a:cubicBezTo>
                  <a:pt x="20926" y="18080"/>
                  <a:pt x="20897" y="17925"/>
                  <a:pt x="20836" y="17884"/>
                </a:cubicBezTo>
                <a:cubicBezTo>
                  <a:pt x="20753" y="17829"/>
                  <a:pt x="20722" y="17884"/>
                  <a:pt x="20662" y="17934"/>
                </a:cubicBezTo>
              </a:path>
              <a:path w="4962" h="3846">
                <a:moveTo>
                  <a:pt x="18802" y="17363"/>
                </a:moveTo>
                <a:cubicBezTo>
                  <a:pt x="18877" y="17313"/>
                  <a:pt x="18784" y="17631"/>
                  <a:pt x="18777" y="17661"/>
                </a:cubicBezTo>
                <a:cubicBezTo>
                  <a:pt x="18766" y="17710"/>
                  <a:pt x="18678" y="17946"/>
                  <a:pt x="18703" y="17959"/>
                </a:cubicBezTo>
                <a:cubicBezTo>
                  <a:pt x="18820" y="17867"/>
                  <a:pt x="18902" y="17877"/>
                  <a:pt x="19050" y="17909"/>
                </a:cubicBezTo>
                <a:cubicBezTo>
                  <a:pt x="19131" y="17927"/>
                  <a:pt x="19177" y="17943"/>
                  <a:pt x="19224" y="17959"/>
                </a:cubicBezTo>
              </a:path>
              <a:path w="4962" h="3846">
                <a:moveTo>
                  <a:pt x="19199" y="17214"/>
                </a:moveTo>
                <a:cubicBezTo>
                  <a:pt x="19199" y="17375"/>
                  <a:pt x="19239" y="17526"/>
                  <a:pt x="19248" y="17686"/>
                </a:cubicBezTo>
                <a:cubicBezTo>
                  <a:pt x="19261" y="17904"/>
                  <a:pt x="19230" y="18115"/>
                  <a:pt x="19224" y="18331"/>
                </a:cubicBezTo>
                <a:cubicBezTo>
                  <a:pt x="19222" y="18404"/>
                  <a:pt x="19244" y="18438"/>
                  <a:pt x="19248" y="18504"/>
                </a:cubicBezTo>
                <a:cubicBezTo>
                  <a:pt x="19248" y="18521"/>
                  <a:pt x="19248" y="18537"/>
                  <a:pt x="19248" y="18554"/>
                </a:cubicBezTo>
              </a:path>
              <a:path w="4962" h="3846">
                <a:moveTo>
                  <a:pt x="19397" y="18926"/>
                </a:moveTo>
                <a:cubicBezTo>
                  <a:pt x="19540" y="18855"/>
                  <a:pt x="19607" y="18830"/>
                  <a:pt x="19769" y="18827"/>
                </a:cubicBezTo>
                <a:cubicBezTo>
                  <a:pt x="19870" y="18825"/>
                  <a:pt x="19971" y="18807"/>
                  <a:pt x="20067" y="18802"/>
                </a:cubicBezTo>
                <a:cubicBezTo>
                  <a:pt x="20175" y="18796"/>
                  <a:pt x="20285" y="18803"/>
                  <a:pt x="20389" y="18777"/>
                </a:cubicBezTo>
                <a:cubicBezTo>
                  <a:pt x="20495" y="18751"/>
                  <a:pt x="20567" y="18696"/>
                  <a:pt x="20662" y="18653"/>
                </a:cubicBezTo>
                <a:cubicBezTo>
                  <a:pt x="20766" y="18606"/>
                  <a:pt x="20877" y="18567"/>
                  <a:pt x="20985" y="18529"/>
                </a:cubicBezTo>
                <a:cubicBezTo>
                  <a:pt x="21069" y="18499"/>
                  <a:pt x="21156" y="18477"/>
                  <a:pt x="21233" y="18430"/>
                </a:cubicBezTo>
                <a:cubicBezTo>
                  <a:pt x="21299" y="18390"/>
                  <a:pt x="21377" y="18337"/>
                  <a:pt x="21431" y="18281"/>
                </a:cubicBezTo>
                <a:cubicBezTo>
                  <a:pt x="21500" y="18210"/>
                  <a:pt x="21554" y="18118"/>
                  <a:pt x="21605" y="18033"/>
                </a:cubicBezTo>
                <a:cubicBezTo>
                  <a:pt x="21692" y="17887"/>
                  <a:pt x="21776" y="17740"/>
                  <a:pt x="21853" y="17587"/>
                </a:cubicBezTo>
                <a:cubicBezTo>
                  <a:pt x="21923" y="17447"/>
                  <a:pt x="21948" y="17321"/>
                  <a:pt x="21952" y="17165"/>
                </a:cubicBezTo>
                <a:cubicBezTo>
                  <a:pt x="21955" y="17045"/>
                  <a:pt x="21961" y="16967"/>
                  <a:pt x="21903" y="16867"/>
                </a:cubicBezTo>
                <a:cubicBezTo>
                  <a:pt x="21879" y="16826"/>
                  <a:pt x="21807" y="16696"/>
                  <a:pt x="21779" y="16669"/>
                </a:cubicBezTo>
                <a:cubicBezTo>
                  <a:pt x="21740" y="16631"/>
                  <a:pt x="21636" y="16565"/>
                  <a:pt x="21580" y="16545"/>
                </a:cubicBezTo>
                <a:cubicBezTo>
                  <a:pt x="21501" y="16517"/>
                  <a:pt x="21413" y="16502"/>
                  <a:pt x="21332" y="16495"/>
                </a:cubicBezTo>
                <a:cubicBezTo>
                  <a:pt x="21133" y="16478"/>
                  <a:pt x="20932" y="16506"/>
                  <a:pt x="20737" y="16520"/>
                </a:cubicBezTo>
                <a:cubicBezTo>
                  <a:pt x="20578" y="16532"/>
                  <a:pt x="20421" y="16537"/>
                  <a:pt x="20265" y="16570"/>
                </a:cubicBezTo>
                <a:cubicBezTo>
                  <a:pt x="20132" y="16598"/>
                  <a:pt x="20004" y="16594"/>
                  <a:pt x="19869" y="16594"/>
                </a:cubicBezTo>
                <a:cubicBezTo>
                  <a:pt x="19771" y="16594"/>
                  <a:pt x="19691" y="16596"/>
                  <a:pt x="19596" y="16619"/>
                </a:cubicBezTo>
                <a:cubicBezTo>
                  <a:pt x="19477" y="16648"/>
                  <a:pt x="19358" y="16668"/>
                  <a:pt x="19248" y="16718"/>
                </a:cubicBezTo>
                <a:cubicBezTo>
                  <a:pt x="19160" y="16758"/>
                  <a:pt x="19070" y="16816"/>
                  <a:pt x="18976" y="16842"/>
                </a:cubicBezTo>
                <a:cubicBezTo>
                  <a:pt x="18878" y="16869"/>
                  <a:pt x="18778" y="16879"/>
                  <a:pt x="18678" y="16917"/>
                </a:cubicBezTo>
                <a:cubicBezTo>
                  <a:pt x="18555" y="16964"/>
                  <a:pt x="18512" y="17052"/>
                  <a:pt x="18455" y="17165"/>
                </a:cubicBezTo>
                <a:cubicBezTo>
                  <a:pt x="18418" y="17240"/>
                  <a:pt x="18401" y="17312"/>
                  <a:pt x="18380" y="17388"/>
                </a:cubicBezTo>
                <a:cubicBezTo>
                  <a:pt x="18360" y="17460"/>
                  <a:pt x="18375" y="17540"/>
                  <a:pt x="18355" y="17611"/>
                </a:cubicBezTo>
                <a:cubicBezTo>
                  <a:pt x="18338" y="17673"/>
                  <a:pt x="18320" y="17723"/>
                  <a:pt x="18306" y="17785"/>
                </a:cubicBezTo>
                <a:cubicBezTo>
                  <a:pt x="18290" y="17855"/>
                  <a:pt x="18265" y="17931"/>
                  <a:pt x="18281" y="18008"/>
                </a:cubicBezTo>
                <a:cubicBezTo>
                  <a:pt x="18300" y="18101"/>
                  <a:pt x="18355" y="18229"/>
                  <a:pt x="18405" y="18306"/>
                </a:cubicBezTo>
                <a:cubicBezTo>
                  <a:pt x="18432" y="18347"/>
                  <a:pt x="18476" y="18428"/>
                  <a:pt x="18504" y="18455"/>
                </a:cubicBezTo>
                <a:cubicBezTo>
                  <a:pt x="18545" y="18495"/>
                  <a:pt x="18608" y="18531"/>
                  <a:pt x="18653" y="18554"/>
                </a:cubicBezTo>
                <a:cubicBezTo>
                  <a:pt x="18704" y="18580"/>
                  <a:pt x="18751" y="18610"/>
                  <a:pt x="18802" y="18628"/>
                </a:cubicBezTo>
                <a:cubicBezTo>
                  <a:pt x="18854" y="18647"/>
                  <a:pt x="18927" y="18663"/>
                  <a:pt x="18976" y="18678"/>
                </a:cubicBezTo>
                <a:cubicBezTo>
                  <a:pt x="19032" y="18695"/>
                  <a:pt x="19075" y="18702"/>
                  <a:pt x="19124" y="18728"/>
                </a:cubicBezTo>
                <a:cubicBezTo>
                  <a:pt x="19163" y="18748"/>
                  <a:pt x="19185" y="18786"/>
                  <a:pt x="19224" y="18802"/>
                </a:cubicBezTo>
                <a:cubicBezTo>
                  <a:pt x="19260" y="18817"/>
                  <a:pt x="19282" y="18821"/>
                  <a:pt x="19323" y="18827"/>
                </a:cubicBezTo>
                <a:cubicBezTo>
                  <a:pt x="19364" y="18833"/>
                  <a:pt x="19381" y="18847"/>
                  <a:pt x="19422" y="18852"/>
                </a:cubicBezTo>
                <a:cubicBezTo>
                  <a:pt x="19533" y="18865"/>
                  <a:pt x="19641" y="18839"/>
                  <a:pt x="19745" y="18827"/>
                </a:cubicBezTo>
                <a:cubicBezTo>
                  <a:pt x="19769" y="18827"/>
                  <a:pt x="19778" y="18827"/>
                  <a:pt x="19794" y="18827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11840" y="4589640"/>
            <a:ext cx="606240" cy="411120"/>
          </a:xfrm>
          <a:custGeom>
            <a:avLst/>
            <a:gdLst/>
            <a:ahLst/>
            <a:rect l="l" t="t" r="r" b="b"/>
            <a:pathLst>
              <a:path w="1687" h="1142">
                <a:moveTo>
                  <a:pt x="13643" y="13469"/>
                </a:moveTo>
                <a:cubicBezTo>
                  <a:pt x="13707" y="13469"/>
                  <a:pt x="13770" y="13495"/>
                  <a:pt x="13816" y="13543"/>
                </a:cubicBezTo>
                <a:cubicBezTo>
                  <a:pt x="13860" y="13608"/>
                  <a:pt x="13871" y="13623"/>
                  <a:pt x="13891" y="13667"/>
                </a:cubicBezTo>
              </a:path>
              <a:path w="1687" h="1142">
                <a:moveTo>
                  <a:pt x="13940" y="13419"/>
                </a:moveTo>
                <a:cubicBezTo>
                  <a:pt x="13905" y="13470"/>
                  <a:pt x="13791" y="13636"/>
                  <a:pt x="13791" y="13692"/>
                </a:cubicBezTo>
                <a:cubicBezTo>
                  <a:pt x="13799" y="13692"/>
                  <a:pt x="13808" y="13692"/>
                  <a:pt x="13816" y="13692"/>
                </a:cubicBezTo>
              </a:path>
              <a:path w="1687" h="1142">
                <a:moveTo>
                  <a:pt x="14213" y="13667"/>
                </a:moveTo>
                <a:cubicBezTo>
                  <a:pt x="14204" y="13704"/>
                  <a:pt x="14192" y="13713"/>
                  <a:pt x="14163" y="13742"/>
                </a:cubicBezTo>
                <a:cubicBezTo>
                  <a:pt x="14186" y="13810"/>
                  <a:pt x="14300" y="13737"/>
                  <a:pt x="14362" y="13767"/>
                </a:cubicBezTo>
                <a:cubicBezTo>
                  <a:pt x="14370" y="13783"/>
                  <a:pt x="14379" y="13800"/>
                  <a:pt x="14387" y="13816"/>
                </a:cubicBezTo>
                <a:cubicBezTo>
                  <a:pt x="14316" y="13934"/>
                  <a:pt x="14251" y="13886"/>
                  <a:pt x="14139" y="13841"/>
                </a:cubicBezTo>
              </a:path>
              <a:path w="1687" h="1142">
                <a:moveTo>
                  <a:pt x="14238" y="13618"/>
                </a:moveTo>
                <a:cubicBezTo>
                  <a:pt x="14312" y="13593"/>
                  <a:pt x="14337" y="13584"/>
                  <a:pt x="14387" y="13568"/>
                </a:cubicBezTo>
              </a:path>
              <a:path w="1687" h="1142">
                <a:moveTo>
                  <a:pt x="14163" y="13469"/>
                </a:moveTo>
                <a:cubicBezTo>
                  <a:pt x="14248" y="13469"/>
                  <a:pt x="14305" y="13465"/>
                  <a:pt x="14387" y="13444"/>
                </a:cubicBezTo>
              </a:path>
              <a:path w="1687" h="1142">
                <a:moveTo>
                  <a:pt x="14213" y="13146"/>
                </a:moveTo>
                <a:cubicBezTo>
                  <a:pt x="14213" y="13118"/>
                  <a:pt x="14216" y="13108"/>
                  <a:pt x="14238" y="13097"/>
                </a:cubicBezTo>
                <a:cubicBezTo>
                  <a:pt x="14227" y="13139"/>
                  <a:pt x="14207" y="13174"/>
                  <a:pt x="14188" y="13221"/>
                </a:cubicBezTo>
                <a:cubicBezTo>
                  <a:pt x="14230" y="13221"/>
                  <a:pt x="14316" y="13197"/>
                  <a:pt x="14312" y="13271"/>
                </a:cubicBezTo>
                <a:cubicBezTo>
                  <a:pt x="14307" y="13349"/>
                  <a:pt x="14218" y="13361"/>
                  <a:pt x="14163" y="13370"/>
                </a:cubicBezTo>
                <a:cubicBezTo>
                  <a:pt x="14163" y="13311"/>
                  <a:pt x="14160" y="13285"/>
                  <a:pt x="14139" y="13246"/>
                </a:cubicBezTo>
              </a:path>
              <a:path w="1687" h="1142">
                <a:moveTo>
                  <a:pt x="14263" y="13072"/>
                </a:moveTo>
                <a:cubicBezTo>
                  <a:pt x="14321" y="13053"/>
                  <a:pt x="14377" y="13032"/>
                  <a:pt x="14436" y="13022"/>
                </a:cubicBezTo>
              </a:path>
              <a:path w="1687" h="1142">
                <a:moveTo>
                  <a:pt x="14734" y="12824"/>
                </a:moveTo>
                <a:cubicBezTo>
                  <a:pt x="14801" y="12890"/>
                  <a:pt x="14754" y="13112"/>
                  <a:pt x="14734" y="13221"/>
                </a:cubicBezTo>
                <a:cubicBezTo>
                  <a:pt x="14710" y="13316"/>
                  <a:pt x="14699" y="13352"/>
                  <a:pt x="14759" y="13246"/>
                </a:cubicBezTo>
              </a:path>
              <a:path w="1687" h="1142">
                <a:moveTo>
                  <a:pt x="15056" y="12799"/>
                </a:moveTo>
                <a:cubicBezTo>
                  <a:pt x="15047" y="12880"/>
                  <a:pt x="14997" y="12943"/>
                  <a:pt x="15081" y="12998"/>
                </a:cubicBezTo>
                <a:cubicBezTo>
                  <a:pt x="15159" y="13049"/>
                  <a:pt x="15410" y="13101"/>
                  <a:pt x="15304" y="13246"/>
                </a:cubicBezTo>
                <a:cubicBezTo>
                  <a:pt x="15220" y="13301"/>
                  <a:pt x="15184" y="13318"/>
                  <a:pt x="15106" y="13295"/>
                </a:cubicBezTo>
              </a:path>
              <a:path w="1687" h="1142">
                <a:moveTo>
                  <a:pt x="15180" y="12799"/>
                </a:moveTo>
                <a:cubicBezTo>
                  <a:pt x="15221" y="12783"/>
                  <a:pt x="15263" y="12766"/>
                  <a:pt x="15304" y="12750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92840" y="3562200"/>
            <a:ext cx="1268280" cy="876600"/>
          </a:xfrm>
          <a:custGeom>
            <a:avLst/>
            <a:gdLst/>
            <a:ahLst/>
            <a:rect l="l" t="t" r="r" b="b"/>
            <a:pathLst>
              <a:path w="3523" h="2432">
                <a:moveTo>
                  <a:pt x="17041" y="11013"/>
                </a:moveTo>
                <a:cubicBezTo>
                  <a:pt x="17024" y="11229"/>
                  <a:pt x="16979" y="11445"/>
                  <a:pt x="16942" y="11658"/>
                </a:cubicBezTo>
                <a:cubicBezTo>
                  <a:pt x="16920" y="11766"/>
                  <a:pt x="16917" y="11793"/>
                  <a:pt x="16892" y="11857"/>
                </a:cubicBezTo>
              </a:path>
              <a:path w="3523" h="2432">
                <a:moveTo>
                  <a:pt x="17983" y="10914"/>
                </a:moveTo>
                <a:cubicBezTo>
                  <a:pt x="17937" y="10821"/>
                  <a:pt x="17748" y="10859"/>
                  <a:pt x="17661" y="10889"/>
                </a:cubicBezTo>
                <a:cubicBezTo>
                  <a:pt x="17512" y="10940"/>
                  <a:pt x="17438" y="11016"/>
                  <a:pt x="17363" y="11137"/>
                </a:cubicBezTo>
                <a:cubicBezTo>
                  <a:pt x="17460" y="11248"/>
                  <a:pt x="17689" y="11370"/>
                  <a:pt x="17735" y="11509"/>
                </a:cubicBezTo>
                <a:cubicBezTo>
                  <a:pt x="17788" y="11670"/>
                  <a:pt x="17598" y="11721"/>
                  <a:pt x="17487" y="11733"/>
                </a:cubicBezTo>
                <a:cubicBezTo>
                  <a:pt x="17479" y="11733"/>
                  <a:pt x="17470" y="11733"/>
                  <a:pt x="17462" y="11733"/>
                </a:cubicBezTo>
                <a:cubicBezTo>
                  <a:pt x="17437" y="11605"/>
                  <a:pt x="17476" y="11460"/>
                  <a:pt x="17537" y="11336"/>
                </a:cubicBezTo>
                <a:cubicBezTo>
                  <a:pt x="17613" y="11181"/>
                  <a:pt x="17740" y="11098"/>
                  <a:pt x="17835" y="10964"/>
                </a:cubicBezTo>
                <a:cubicBezTo>
                  <a:pt x="17853" y="10938"/>
                  <a:pt x="17874" y="10927"/>
                  <a:pt x="17835" y="10914"/>
                </a:cubicBezTo>
              </a:path>
              <a:path w="3523" h="2432">
                <a:moveTo>
                  <a:pt x="18504" y="10517"/>
                </a:moveTo>
                <a:cubicBezTo>
                  <a:pt x="18616" y="10480"/>
                  <a:pt x="18636" y="10440"/>
                  <a:pt x="18728" y="10517"/>
                </a:cubicBezTo>
                <a:cubicBezTo>
                  <a:pt x="18696" y="10678"/>
                  <a:pt x="18644" y="10659"/>
                  <a:pt x="18529" y="10740"/>
                </a:cubicBezTo>
                <a:cubicBezTo>
                  <a:pt x="18537" y="10740"/>
                  <a:pt x="18546" y="10740"/>
                  <a:pt x="18554" y="10740"/>
                </a:cubicBezTo>
                <a:cubicBezTo>
                  <a:pt x="18630" y="10716"/>
                  <a:pt x="18709" y="10690"/>
                  <a:pt x="18752" y="10765"/>
                </a:cubicBezTo>
                <a:cubicBezTo>
                  <a:pt x="18760" y="10782"/>
                  <a:pt x="18769" y="10798"/>
                  <a:pt x="18777" y="10815"/>
                </a:cubicBezTo>
                <a:cubicBezTo>
                  <a:pt x="18682" y="10878"/>
                  <a:pt x="18592" y="10864"/>
                  <a:pt x="18479" y="10864"/>
                </a:cubicBezTo>
                <a:cubicBezTo>
                  <a:pt x="18471" y="10864"/>
                  <a:pt x="18463" y="10864"/>
                  <a:pt x="18455" y="10864"/>
                </a:cubicBezTo>
              </a:path>
              <a:path w="3523" h="2432">
                <a:moveTo>
                  <a:pt x="18380" y="11137"/>
                </a:moveTo>
                <a:cubicBezTo>
                  <a:pt x="18505" y="11137"/>
                  <a:pt x="18809" y="11081"/>
                  <a:pt x="18901" y="11112"/>
                </a:cubicBezTo>
                <a:cubicBezTo>
                  <a:pt x="18901" y="11120"/>
                  <a:pt x="18901" y="11129"/>
                  <a:pt x="18901" y="11137"/>
                </a:cubicBezTo>
              </a:path>
              <a:path w="3523" h="2432">
                <a:moveTo>
                  <a:pt x="18777" y="11385"/>
                </a:moveTo>
                <a:cubicBezTo>
                  <a:pt x="18651" y="11398"/>
                  <a:pt x="18584" y="11440"/>
                  <a:pt x="18479" y="11509"/>
                </a:cubicBezTo>
                <a:cubicBezTo>
                  <a:pt x="18546" y="11576"/>
                  <a:pt x="18725" y="11591"/>
                  <a:pt x="18777" y="11683"/>
                </a:cubicBezTo>
                <a:cubicBezTo>
                  <a:pt x="18836" y="11788"/>
                  <a:pt x="18664" y="11822"/>
                  <a:pt x="18604" y="11832"/>
                </a:cubicBezTo>
                <a:cubicBezTo>
                  <a:pt x="18623" y="11696"/>
                  <a:pt x="18687" y="11590"/>
                  <a:pt x="18728" y="11460"/>
                </a:cubicBezTo>
                <a:cubicBezTo>
                  <a:pt x="18728" y="11452"/>
                  <a:pt x="18728" y="11443"/>
                  <a:pt x="18728" y="11435"/>
                </a:cubicBezTo>
              </a:path>
              <a:path w="3523" h="2432">
                <a:moveTo>
                  <a:pt x="17090" y="12129"/>
                </a:moveTo>
                <a:cubicBezTo>
                  <a:pt x="17351" y="12091"/>
                  <a:pt x="17619" y="12101"/>
                  <a:pt x="17884" y="12080"/>
                </a:cubicBezTo>
                <a:cubicBezTo>
                  <a:pt x="18455" y="12035"/>
                  <a:pt x="19056" y="11930"/>
                  <a:pt x="19546" y="11609"/>
                </a:cubicBezTo>
                <a:cubicBezTo>
                  <a:pt x="19809" y="11437"/>
                  <a:pt x="19893" y="11196"/>
                  <a:pt x="19893" y="10889"/>
                </a:cubicBezTo>
                <a:cubicBezTo>
                  <a:pt x="19893" y="10628"/>
                  <a:pt x="19733" y="10344"/>
                  <a:pt x="19546" y="10170"/>
                </a:cubicBezTo>
                <a:cubicBezTo>
                  <a:pt x="19328" y="9968"/>
                  <a:pt x="18989" y="9915"/>
                  <a:pt x="18703" y="9897"/>
                </a:cubicBezTo>
                <a:cubicBezTo>
                  <a:pt x="18348" y="9875"/>
                  <a:pt x="18025" y="9919"/>
                  <a:pt x="17686" y="10021"/>
                </a:cubicBezTo>
                <a:cubicBezTo>
                  <a:pt x="17321" y="10130"/>
                  <a:pt x="17127" y="10329"/>
                  <a:pt x="16892" y="10616"/>
                </a:cubicBezTo>
                <a:cubicBezTo>
                  <a:pt x="16765" y="10772"/>
                  <a:pt x="16627" y="10919"/>
                  <a:pt x="16520" y="11088"/>
                </a:cubicBezTo>
                <a:cubicBezTo>
                  <a:pt x="16413" y="11256"/>
                  <a:pt x="16375" y="11413"/>
                  <a:pt x="16371" y="11609"/>
                </a:cubicBezTo>
                <a:cubicBezTo>
                  <a:pt x="16368" y="11763"/>
                  <a:pt x="16364" y="11856"/>
                  <a:pt x="16446" y="11981"/>
                </a:cubicBezTo>
                <a:cubicBezTo>
                  <a:pt x="16503" y="12067"/>
                  <a:pt x="16623" y="12234"/>
                  <a:pt x="16718" y="12278"/>
                </a:cubicBezTo>
                <a:cubicBezTo>
                  <a:pt x="16895" y="12360"/>
                  <a:pt x="17133" y="12324"/>
                  <a:pt x="17314" y="12278"/>
                </a:cubicBezTo>
                <a:cubicBezTo>
                  <a:pt x="17387" y="12259"/>
                  <a:pt x="17564" y="12191"/>
                  <a:pt x="17611" y="12179"/>
                </a:cubicBezTo>
                <a:cubicBezTo>
                  <a:pt x="17619" y="12179"/>
                  <a:pt x="17628" y="12179"/>
                  <a:pt x="17636" y="12179"/>
                </a:cubicBez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and subtract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ction Tic Tac T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which partner will be X and which will be 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turns with your partner creating mixed number problems by rolling the 3 die. (First make addition problems, then subtractio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 the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 problems and check your partner’s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95000"/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ner with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st 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st diffe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ces their mark on the Tic Tac Toe bo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9200" y="5919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722" y="16446"/>
                </a:moveTo>
                <a:lnTo>
                  <a:pt x="6722" y="16446"/>
                </a:lnTo>
              </a:path>
            </a:pathLst>
          </a:custGeom>
          <a:noFill/>
          <a:ln cap="rnd" w="349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- All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Tomorr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3:17:52Z</dcterms:created>
  <dc:creator>Brian McGrath</dc:creator>
  <dc:description/>
  <dc:language>en-US</dc:language>
  <cp:lastModifiedBy>ccps</cp:lastModifiedBy>
  <dcterms:modified xsi:type="dcterms:W3CDTF">2010-04-07T17:25:33Z</dcterms:modified>
  <cp:revision>2</cp:revision>
  <dc:subject/>
  <dc:title>April 7, 2010</dc:title>
</cp:coreProperties>
</file>